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997680" cy="928368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656">
                <a:moveTo>
                  <a:pt x="4" y="0"/>
                </a:moveTo>
                <a:arcTo wR="4" hR="4" stAng="16200000" swAng="-5400000"/>
                <a:lnTo>
                  <a:pt x="0" y="28652"/>
                </a:lnTo>
                <a:arcTo wR="4" hR="4" stAng="10800000" swAng="-5400000"/>
                <a:lnTo>
                  <a:pt x="21596" y="2865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96396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040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58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3963960" y="8818200"/>
            <a:ext cx="30304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4B01D-C434-434E-81EB-FB9D2DCC9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30E16-D474-4E0D-B64C-29D8670572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DF234-76FA-4A2C-AC41-E30D9DE599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5D73CA-CEC9-4134-BCB9-C7360AD379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0D714-3499-4079-ACA6-30155F4B52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A9C72F-8419-487A-805C-A322BCA00E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3CDF6-4D36-4B31-AA8E-EA7ECB2E1F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3DFA00-DAA3-4835-8C08-9D90C92399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EF50D-24E0-4E13-AED1-CE1A8DEACB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EABB7A-8CDD-4F03-9E25-9B61C3914E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4EEF3-BD70-4C3A-9FDD-C79A4DA25C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A635CE-1B80-4B66-A021-89B5A5E5EC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2C177-04E2-4ED8-ABAB-2469FEEF5B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7D6928-665E-4F30-9D69-7D154B8073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15FAB-5E5E-4473-8232-0AE44BC41B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53E6A9-C4D2-47CE-9BD1-E5D436285E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26AC7-B1B0-4088-BE12-4B56DF3205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8B0A12-4A45-4E35-A771-CF1252069C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BCFB5-4E7C-4C78-B7D4-9A53E93907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CEF5B0-2678-4346-95C1-EDA8FDF62B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B7EF7-CF63-4E02-8416-419E613B2E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0193F1-BF94-44A6-BD6F-3EB0238233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46A20-146C-4036-BEF4-51792532F8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5287DA-6304-4902-A8C7-A13797245A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27883-CE64-4026-827D-C7A2DC0047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B031E6-91A1-43B0-B950-BE25B410B5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28BB0-42CA-44EC-90EB-64EB1947C8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0F4949-3A6B-4336-A533-831B67358D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01B7A-7796-4FA4-B981-46279AE732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0ADD2F-FB47-4065-8AAA-98148621D4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0C4E6-283A-4A3B-8F27-94EA47BFBD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8F7A42-3B3B-4430-B224-2F81C26DBF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F5136-245C-4A68-9380-28CD6D263D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F0FC94-00AE-494E-9671-E60E9CA56C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2CA0D-97E3-4D23-929C-11AE8CFCEC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EE9859-E33D-4B2B-BEBF-6BC8CA5E84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66FB5-1310-42B2-8037-C77F910A41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00227E-894A-4069-AF65-1689ECD73F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78523-BF40-4B0B-8686-2C27254E9C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B4FCA8-885F-439E-BF66-FA2C9AB386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EE856-72F0-4B22-AED7-87627F2922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1A1947-74B1-485A-96D7-57421E2592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E52BE-4572-4DEB-B1FE-98D3FA100A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212E75-9306-4BEB-A23D-78A5FD10D7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83F61-192B-402B-9DD4-0DBE732C87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C85EBE-1285-4409-8B78-E406006479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DBC19-0115-46B3-B744-59D9EBB429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F442ED-AE8F-4D22-AD74-59FB27E071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B965B-5802-4636-9D88-A30121052B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220081-4F90-44A4-9B6E-748F4DFF38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0CC26-9CEA-4A15-A97F-B3E4EFCD4C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AD411E-CBA0-4DD1-B5D3-B3E3644D31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8662B-5C68-4D0D-957F-A0D1BAD156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5E64DF-2F62-4C11-A9E5-A3E829BD6F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C3CC4-EAFE-42B4-80BD-683574E8EC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C93E20-E774-40FE-9BB5-3266E62366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F981B-762D-4A82-9883-D37FDF5662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13CA26-AD1F-4F78-B6CA-B43155779A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47185-5F78-4675-8FFD-26C9CD9A99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25C65D-357F-404C-BBD2-F976D63F00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01942-AC30-4D1B-9034-21BA77ADE2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38F142-6929-4236-9696-358CC0EB1F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CC673-2FC2-4D08-A434-AF15B9923D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F6F155-758D-492E-BB37-8EEF633103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989C3-71B0-4170-ADFC-C4041F7AC0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0CAB4C-F982-4373-B98C-69DC5DEAF2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46D9E-3CA2-43E6-A5CD-F574581427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86BD03-25FA-4252-80C1-6C9DD86815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0D309-A2DC-4B50-BF5B-4E6460E47B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C28709-3D3C-4D54-959F-BF56951413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AC8D7-4732-4930-88E8-E3571771CB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4022BD-0B13-4967-BBA0-7BE7C403A9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40E37-6F7D-4597-A48A-0923BBC466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D003F3-42D1-4754-BAE1-EF69258D5B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A3054-472E-4C49-A068-76B060DE44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914586-175A-4BCA-828F-0D31309952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269E0-CAD3-4428-B1AF-935AB8769B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C8ACE3-A969-4FC4-BA86-75F7ABD4F7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5AD6B-747A-4C61-9FF7-B724CC544D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545BE6-905A-4BF1-9EBF-F34C59E503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3FE99-649E-46A9-9F53-F7F898881C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F685FC-9DE7-46D5-B1F8-30A2CFD6B4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5CF4D-B074-4140-BF8D-5D636EC328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A9E8F4-AB48-4150-B249-060A1B4AC1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B9E46-680A-4F0D-A09E-B3F567B474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840D98-7B4A-43E3-BB83-C5043DD607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6DAEA-421F-48A0-934E-4DCCEAD1FA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584A70-E179-47BF-A8D9-D70DA87C3F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1EDB4-226D-4E2A-8D2A-E9941C02F5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EBD756-8DDE-4480-880D-41C90EA63B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B819C-166E-4D85-8A53-ADC5DF84B4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52B233-D186-41C5-BBCF-74CD0AD9CE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75A53-E2DB-4956-AAF0-9AFFB5D644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450FAE-8AF8-4E71-9088-AA082F1139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04012-4EE8-4431-99AC-99AA7F7D9E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E84766-BECA-4606-8733-F3CEF40987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D8C20-D4CB-4E2C-963A-D4F82DC0DF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9ABE6A-37EF-4BEB-B42C-F6977D680E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52CEE-C6BC-4E58-95A3-AF9C85BF32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A54CDD-FDBE-4231-8992-3D738690E9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2E27D-C57F-472B-89AD-6F6511B916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89BD4E-DDE5-4398-82F1-27037C6CE0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5D914-DFAF-45DA-81AE-0F84DA4553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214CAE-A37A-448E-9F8B-C84E9653B3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E909C-09C3-4209-80CB-79E06846CE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470BC9-A9B8-4840-B82D-CCCD7F7A70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61017-E5C4-413A-84CD-21C0F28A58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29A69C-4AA1-47F2-BCA4-F3D4D0A850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EECD8-C36B-4FD1-9D72-4F40825DB8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67CED5-4BFE-4642-9BCD-643E2D8279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6D1A3-DC3E-488D-A696-169A07A5FA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11CD24-54B8-49DD-AA48-5158149E35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86DC2-DF95-4608-A326-DD2A44271D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E2853C-6BE3-4B7E-A90A-94EDF14D13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D6CC2-F49F-4B37-AD4A-D466F78719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567C89-E64E-4AAC-828C-13FE285CDC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981F0-A25C-4E68-BBCA-EA21C13BDF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15BABF-57BC-41B5-A3D3-38C5489DED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6DB25-707A-494D-BA6F-41BC4B07B0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522BDB-D58E-45F0-BB8A-21B2484BE1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ADCB9-86F2-4476-B709-020AD9923C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54DDE6-EFD5-43FD-B860-99BA327EDD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8265F-B306-4FD0-B631-89EEF6797D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D8E0EF-2A29-4752-B027-280787C873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C8C0D-3E6D-48AA-AFA3-785890121D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59584A-2CAA-43A8-B67C-39584BB7CE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AF24B-E1D6-45DF-9FF7-423BC6C176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3A00F2-1076-4926-891B-B621862CBD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61330-E15A-497B-B71E-6079657784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C57559-A549-4618-B828-683BB04518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8DDFA-192E-4046-A69D-043D7084CF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48C2A4-A985-4DC1-A068-298B09D45F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E9C70-A743-43F7-B755-B3E9E388E7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4EDFEC-0D6F-4F05-BAE4-98147B6DA7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E8EDF-E817-4C3F-B078-81B585B412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0BF501-A1DA-40E8-BF76-0414816640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F0F7E-F44D-4925-8E0C-776BB90C97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18D19E-4DAB-458C-88BA-040008C6A1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9F08E-36C5-4485-B3A6-3CCE7550D8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B9F0CC-0508-455C-8434-AC0A4E2FA1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A3053-69A1-40AA-9304-49C64E5A2D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AFCF9D-7683-4246-9C56-05F30E35E4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ADB5B-9965-4357-A45D-EE5BC962F3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02E246-8CEB-4167-AE12-7DCA7766CE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42F2E-BF5B-4EAE-8C0F-5277AF2E0E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565541-2F3D-4AD4-B4BA-4AC674746C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FAB22-D153-4D7C-96EE-7934063918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EE53B0-A8A2-42FD-861B-E55C922F66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-1465200" y="665280"/>
            <a:ext cx="14034960" cy="1052676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1066320" y="4419360"/>
            <a:ext cx="486900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01E65-6AEE-48B0-9B98-3EC7A98234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089E43-697A-41C4-9559-B5FF1120CC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-1465200" y="665280"/>
            <a:ext cx="14034960" cy="10526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066320" y="4419360"/>
            <a:ext cx="486900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16802-3EFB-4DA6-9E30-E9890A6462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7850DD-AFB5-4BDB-AF53-976134F9D1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64398-70EF-42D5-BCD1-DEAE339B4F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87469B-48DC-4213-87C0-4B4D20285C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4BB2E-6CF5-47F7-9478-35B2D529B2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ECA801-006D-4277-A1FF-DF709924DB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3AAEE-E433-4464-A1E2-0B80924529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4291EC-0DC7-4F7C-94C5-97D333F077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-1465200" y="665280"/>
            <a:ext cx="14034960" cy="10526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1066320" y="4419360"/>
            <a:ext cx="486900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AFAD4-3EF5-4B2C-8EE6-8341A30BF5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DA314A-0176-4A53-9502-3DB0527DE0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-1465200" y="665280"/>
            <a:ext cx="14034960" cy="105267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1066320" y="4419360"/>
            <a:ext cx="486900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1764D-FA18-44FA-8C46-85BC93B02B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E98730-1C35-46C5-B95A-CC0D1F4D82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67411-5AB5-4E78-AACB-53BD6E4D38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B7A45F-25B6-4D7D-9E4D-F5F9A4ADE6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6BFEA-1A9E-4240-9B29-F9CD85795E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954B40-3A91-4272-9F1E-3177744F74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AC5F9-F697-45C8-855F-02DDC3D830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7C9110-8381-4928-BC72-C830A6BB6E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87FE3-611D-47B1-BB3A-3AB56D99B1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46E050-95F3-42AA-9173-688F45CAD1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EA710-44D6-48CC-81F0-ED3B40F3C2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31C650-B348-4F79-AB62-52FD535465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B32F2-D27F-4047-9706-6A2F0D5892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7A63F2-DAE0-4287-B6BE-18CBC2AF1C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15399-2FFF-4DEF-AA08-98B6CCBFA5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CC91C7-34DB-4367-B5E5-D0015DB883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F2BD8-73C4-4BAA-B0DA-1A811F8318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90D71F-4981-436F-B463-837287E72B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9CB88-3CE0-426E-8E20-A20998CFEF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D9D8E5-1B52-4D7C-875D-044A24027A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4D3A0-688C-495E-96E7-13AD6FB0BD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921C2B-8CDD-4501-B91C-AD19B53040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14928-F022-419F-894D-56C15319FA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219C19-5D23-411A-B242-4088EB9380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88BDE-D712-40AD-8115-F03124C76D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818AE6-ED8B-44D7-B5AC-27CA814B30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-1465200" y="665280"/>
            <a:ext cx="14034960" cy="1052676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1066320" y="4419360"/>
            <a:ext cx="486900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1570A-D61C-47BF-BBC8-74B3B67282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0901BC-B552-4AA7-B56F-373BC6E8D2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-1465200" y="665280"/>
            <a:ext cx="14034960" cy="1052676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1066320" y="4419360"/>
            <a:ext cx="486900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945B9-ADAB-4FE2-9799-AC8FDA1C0A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451416-FB98-4365-B1DC-E0314ED7F7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-1465200" y="665280"/>
            <a:ext cx="14034960" cy="1052676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066320" y="4419360"/>
            <a:ext cx="486900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963960" y="881856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7BE56-5513-44F6-9D16-9010F87224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Text Box 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5F8703-4449-4178-AC89-446007CAB1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ython.org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http://docs.python.org/lib/lib.html" TargetMode="External"/><Relationship Id="rId2" Type="http://schemas.openxmlformats.org/officeDocument/2006/relationships/hyperlink" Target="http://proquest.safaribooksonline.com/0596100469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hyperlink" Target="http://docs.python.org/lib/bltin-file-object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hyperlink" Target="http://www.diveintopython.org/regular_expressions/index.html" TargetMode="External"/><Relationship Id="rId2" Type="http://schemas.openxmlformats.org/officeDocument/2006/relationships/hyperlink" Target="http://www.amk.ca/python/howto/regex/regex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1432080" cy="20732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Python Tutorial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ed from slides by Prof. Mitch Marc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981000" y="291960"/>
            <a:ext cx="816300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Playing with Python (3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042920" y="1832040"/>
            <a:ext cx="5410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x=['a','b','c'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x[1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'b'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x[1: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['b', 'c'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x[1]='d'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['a', 'd', 'c'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765000" y="360360"/>
            <a:ext cx="8163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Playing with Python (4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870120" y="1587600"/>
            <a:ext cx="607860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def p(x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if len(x) &lt; 2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return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els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return x[0] == x[-1] and p(x[1:-1]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p('abc'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p('aba'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p([1,2,3]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p([1,'a','a',1]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p((False,2,2,False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p(('a',1,1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681120" y="250920"/>
            <a:ext cx="81630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w Cen MT"/>
              </a:rPr>
              <a:t>Python dictionaries (Maps)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31880" y="1600200"/>
            <a:ext cx="7648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d={'alice':1234, 'bob':5678, 'clare':901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d['alice'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123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d['bob'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567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d['bob'] = 777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{'clare': 9012, 'bob': 7777, 'alice': 123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d.keys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['clare', 'bob', 'alice'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d.items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[('clare', 9012), ('bob', 7777), ('alice', 1234)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del d['bob'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{'clare': 9012, 'alice': 123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948360" y="4724280"/>
            <a:ext cx="1700280" cy="1854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Installing &amp; Running Python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The Python Interpret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685800" y="18097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active interface to Pyth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% 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ython 2.6 (r26:66714, Feb  3 2009, 20:49:49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[GCC 4.3.2 [gcc-4_3-branch revision 141291]] on linux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ype "help", "copyright", "credits" or "license" for more inform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gt;&gt;&gt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ython interpreter evaluates inpu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&gt;&gt; </a:t>
            </a:r>
            <a:r>
              <a:rPr b="1" lang="en-US" sz="1800" spc="-1" strike="noStrike">
                <a:solidFill>
                  <a:srgbClr val="340025"/>
                </a:solidFill>
                <a:latin typeface="Arial"/>
                <a:ea typeface="Arial"/>
              </a:rPr>
              <a:t>3*(7+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IDLE Development Environm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85800" y="184464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ell for interactive evalu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 editor with color-coding and smart indenting for creating Python fi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nu commands for changing system settings and running file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685800" y="243000"/>
            <a:ext cx="7772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Running Interactively on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760320" y="173664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Unix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pyth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3+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Courier New"/>
                <a:ea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ython prompts with '&gt;&gt;&gt;'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xit Python (not Idle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Unix, type CONTROL-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Windows, type CONTROL-Z + &lt;Enter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Running Programs on UNI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760320" y="173664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99"/>
                </a:solidFill>
                <a:latin typeface="Lucida Sans Unicode"/>
                <a:ea typeface="Lucida Sans Unicode"/>
              </a:rPr>
              <a:t>% python filename.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make a python file executable by adding following text as the first line of the file to make it runnab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2699"/>
                </a:solidFill>
                <a:latin typeface="Lucida Sans Unicode"/>
                <a:ea typeface="Lucida Sans Unicode"/>
              </a:rPr>
              <a:t>#!/usr/bin/pyth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4838760" y="3505320"/>
            <a:ext cx="4054320" cy="3020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w Cen MT"/>
              </a:rPr>
              <a:t>The Basic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A Code S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760320" y="173664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x = 34 - 23            </a:t>
            </a:r>
            <a:r>
              <a:rPr b="1" lang="en-US" sz="1800" spc="-1" strike="noStrike">
                <a:solidFill>
                  <a:srgbClr val="c00000"/>
                </a:solidFill>
                <a:latin typeface="Lucida Sans Typewriter"/>
                <a:ea typeface="Arial"/>
              </a:rPr>
              <a:t># A com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y = </a:t>
            </a:r>
            <a:r>
              <a:rPr b="1" lang="en-US" sz="1800" spc="-1" strike="noStrike">
                <a:solidFill>
                  <a:srgbClr val="33cc33"/>
                </a:solidFill>
                <a:latin typeface="Lucida Sans Typewriter"/>
                <a:ea typeface="Arial"/>
              </a:rPr>
              <a:t>"Hello"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           </a:t>
            </a:r>
            <a:r>
              <a:rPr b="1" lang="en-US" sz="1800" spc="-1" strike="noStrike">
                <a:solidFill>
                  <a:srgbClr val="c00000"/>
                </a:solidFill>
                <a:latin typeface="Lucida Sans Typewriter"/>
                <a:ea typeface="Arial"/>
              </a:rPr>
              <a:t># Another o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z = 3.45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Lucida Sans Typewriter"/>
                <a:ea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z == 3.45 </a:t>
            </a:r>
            <a:r>
              <a:rPr b="1" lang="en-US" sz="1800" spc="-1" strike="noStrike">
                <a:solidFill>
                  <a:srgbClr val="c00000"/>
                </a:solidFill>
                <a:latin typeface="Lucida Sans Typewriter"/>
                <a:ea typeface="Arial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y == </a:t>
            </a:r>
            <a:r>
              <a:rPr b="1" lang="en-US" sz="1800" spc="-1" strike="noStrike">
                <a:solidFill>
                  <a:srgbClr val="33cc33"/>
                </a:solidFill>
                <a:latin typeface="Lucida Sans Typewriter"/>
                <a:ea typeface="Arial"/>
              </a:rPr>
              <a:t>"Hello"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x = x +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y = y + </a:t>
            </a:r>
            <a:r>
              <a:rPr b="1" lang="en-US" sz="1800" spc="-1" strike="noStrike">
                <a:solidFill>
                  <a:srgbClr val="33cc33"/>
                </a:solidFill>
                <a:latin typeface="Lucida Sans Typewriter"/>
                <a:ea typeface="Arial"/>
              </a:rPr>
              <a:t>" World"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  </a:t>
            </a:r>
            <a:r>
              <a:rPr b="1" lang="en-US" sz="1800" spc="-1" strike="noStrike">
                <a:solidFill>
                  <a:srgbClr val="c00000"/>
                </a:solidFill>
                <a:latin typeface="Lucida Sans Typewriter"/>
                <a:ea typeface="Arial"/>
              </a:rPr>
              <a:t># String concat</a:t>
            </a:r>
            <a:r>
              <a:rPr b="1" lang="en-US" sz="1800" spc="-1" strike="noStrike">
                <a:solidFill>
                  <a:srgbClr val="ff3300"/>
                </a:solidFill>
                <a:latin typeface="Lucida Sans Typewriter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Lucida Sans Typewriter"/>
                <a:ea typeface="Arial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Lucida Sans Typewriter"/>
                <a:ea typeface="Arial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Pyth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685800" y="1690560"/>
            <a:ext cx="8153280" cy="411480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ython is an open source scripting languag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do van Rossum in the early 1990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med after Monty Pyth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vailable for download from </a:t>
            </a: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  <a:ea typeface="Arial"/>
                <a:hlinkClick r:id="rId1"/>
              </a:rPr>
              <a:t>http://www.python.o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895480" y="3733920"/>
            <a:ext cx="3962520" cy="2377800"/>
          </a:xfrm>
          <a:prstGeom prst="rect">
            <a:avLst/>
          </a:prstGeom>
          <a:ln w="0">
            <a:noFill/>
          </a:ln>
        </p:spPr>
      </p:pic>
      <p:sp>
        <p:nvSpPr>
          <p:cNvPr id="97" name="Freeform 6"/>
          <p:cNvSpPr/>
          <p:nvPr/>
        </p:nvSpPr>
        <p:spPr>
          <a:xfrm>
            <a:off x="4834080" y="189000"/>
            <a:ext cx="3483000" cy="4116240"/>
          </a:xfrm>
          <a:custGeom>
            <a:avLst/>
            <a:gdLst/>
            <a:ahLst/>
            <a:rect l="l" t="t" r="r" b="b"/>
            <a:pathLst>
              <a:path w="3482975" h="4116387">
                <a:moveTo>
                  <a:pt x="0" y="1668462"/>
                </a:moveTo>
                <a:cubicBezTo>
                  <a:pt x="48419" y="1374774"/>
                  <a:pt x="96838" y="1081087"/>
                  <a:pt x="447675" y="1096962"/>
                </a:cubicBezTo>
                <a:cubicBezTo>
                  <a:pt x="798512" y="1112837"/>
                  <a:pt x="1631950" y="1674812"/>
                  <a:pt x="2105025" y="1763712"/>
                </a:cubicBezTo>
                <a:cubicBezTo>
                  <a:pt x="2578100" y="1852612"/>
                  <a:pt x="3089275" y="1858962"/>
                  <a:pt x="3286125" y="1630362"/>
                </a:cubicBezTo>
                <a:cubicBezTo>
                  <a:pt x="3482975" y="1401762"/>
                  <a:pt x="3313112" y="0"/>
                  <a:pt x="3286125" y="392112"/>
                </a:cubicBezTo>
                <a:cubicBezTo>
                  <a:pt x="3259138" y="784224"/>
                  <a:pt x="3124200" y="3983037"/>
                  <a:pt x="3124200" y="3983037"/>
                </a:cubicBezTo>
                <a:cubicBezTo>
                  <a:pt x="3019425" y="3968750"/>
                  <a:pt x="2527300" y="4116387"/>
                  <a:pt x="2495550" y="3897312"/>
                </a:cubicBezTo>
                <a:cubicBezTo>
                  <a:pt x="2463800" y="3678237"/>
                  <a:pt x="3086100" y="2824162"/>
                  <a:pt x="2933700" y="2668587"/>
                </a:cubicBezTo>
                <a:cubicBezTo>
                  <a:pt x="2781300" y="2513012"/>
                  <a:pt x="2181225" y="2738437"/>
                  <a:pt x="1581150" y="2963862"/>
                </a:cubicBezTo>
              </a:path>
            </a:pathLst>
          </a:custGeom>
          <a:noFill/>
          <a:ln w="44280">
            <a:solidFill>
              <a:srgbClr val="00b050"/>
            </a:solidFill>
            <a:miter/>
            <a:tailEnd len="med" type="triangle" w="med"/>
          </a:ln>
          <a:effectLst>
            <a:outerShdw dist="88798" dir="18124755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685800" y="517680"/>
            <a:ext cx="7989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Enough to Understand the Cod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85800" y="188136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entation matters to the meaning of the co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ck structure indicated by ind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irst assignment to a variable creates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ble types don't need to be declar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ython figures out the variable types on its ow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ignment uses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comparison uses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numbers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+ - * / 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as expec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al use of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 string concaten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al use of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 string formatting (as with printf in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cal operators are words 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and, or, 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mple printing can be done with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Basic Datatyp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831960" y="173664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ers (default for numb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Sans Typewriter"/>
                <a:ea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Lucida Sans Typewriter"/>
                <a:ea typeface="Arial"/>
              </a:rPr>
              <a:t>z = 5 / 2    # Answer is 2, integer divis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o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Sans Typewriter"/>
                <a:ea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Lucida Sans Typewriter"/>
                <a:ea typeface="Arial"/>
              </a:rPr>
              <a:t>x = 3.45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 use "" or '' to specify.  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Lucida Sans Typewriter"/>
                <a:ea typeface="Arial"/>
              </a:rPr>
              <a:t>"abc"  'abc'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Same thing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matched can occur within the string. 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Lucida Sans Typewriter"/>
                <a:ea typeface="Arial"/>
              </a:rPr>
              <a:t>"matt's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triple double-quotes for multi-line strings or strings than contain both ' and " inside of them: 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Lucida Sans Typewriter"/>
                <a:ea typeface="Arial"/>
              </a:rPr>
              <a:t>"""a'b"c"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Whitespa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831960" y="18097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tespace is meaningful in Python: especially indentation and placement of newline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a newline to end a line of co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r>
              <a:rPr b="0" lang="en-US" sz="1800" spc="-1" strike="noStrike">
                <a:solidFill>
                  <a:srgbClr val="3333cc"/>
                </a:solidFill>
                <a:latin typeface="Lucida Sans Typewriter"/>
                <a:ea typeface="Arial"/>
              </a:rPr>
              <a:t>\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must go to next line premature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braces </a:t>
            </a:r>
            <a:r>
              <a:rPr b="0" lang="en-US" sz="1800" spc="-1" strike="noStrike">
                <a:solidFill>
                  <a:srgbClr val="3333cc"/>
                </a:solidFill>
                <a:latin typeface="Lucida Sans Typewriter"/>
                <a:ea typeface="Arial"/>
              </a:rPr>
              <a:t>{ 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mark blocks of code in Python…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st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dentation instead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rst line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dentation is outside of the bloc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rst line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dentation starts a nested bl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ten a colon appears at the start of a new block.  (E.g.  for function and class definitions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Commen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831960" y="173664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comments with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the rest of line is igno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include a "documentation string" as the first line of any new function or class that you def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velopment environment, debugger, and other tools use it: it's good style to include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2699"/>
                </a:solidFill>
                <a:latin typeface="Courier New"/>
              </a:rPr>
              <a:t>my_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x, y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"""This is the docstring. This 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function does blah blah blah."""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# The code would go here..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Assignm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685800" y="1644480"/>
            <a:ext cx="79898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nding a 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Python means setting a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hold a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refer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som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ignment creates references, not cop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iables in Python do not have an intrinsic type.  Objects have typ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ython determines the type of the reference automatically based on what data is assigned to 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 create a variable the first time it appears on the left side of an assignment expression:    </a:t>
            </a:r>
            <a:br>
              <a:rPr sz="2400"/>
            </a:br>
            <a:r>
              <a:rPr b="0" lang="en-US" sz="2000" spc="-1" strike="noStrike">
                <a:solidFill>
                  <a:srgbClr val="3333cc"/>
                </a:solidFill>
                <a:latin typeface="Lucida Sans Typewriter"/>
                <a:ea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Lucida Sans Typewriter"/>
                <a:ea typeface="Arial"/>
              </a:rPr>
              <a:t>x =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eference is deleted via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  <a:ea typeface="Arial"/>
              </a:rPr>
              <a:t>garbage colle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any variables bound to it have passed out of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ython uses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reference seman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Reference Semantics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contain a pointer to the location in memory that stores the val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l1 = [1, 2, 3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l2 = l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l1[0]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l2[0] == 0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Value Semantics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contain the value, assignment copies the val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y =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x = 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x == y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assignment is involved also when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passing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Naming Rul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684360" y="17002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mes are case sensitive and cannot start with a number.  They can contain letters, numbers, and undersc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Arial"/>
              </a:rPr>
              <a:t>bob  Bob  _bob  _2_bob_  bob_2  Bo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re are some reserved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Lucida Console"/>
                <a:ea typeface="Arial"/>
              </a:rPr>
              <a:t>and, assert, break, class, continue, def, del, elif, else, except, exec, finally, for, from, global, if, import, in, is, lambda, not, or, pass, print, raise, return, try, w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Accessing Non-Existent Nam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685800" y="1773360"/>
            <a:ext cx="77724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ying to access a name before it's been properly created (by placing it on the left side of an assignment), gives an err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Arial"/>
              </a:rPr>
              <a:t>Traceback (most recent call last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Arial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Arial"/>
              </a:rPr>
              <a:t>File "&lt;pyshell#16&gt;", line 1, in -toplevel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Arial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Arial"/>
              </a:rPr>
              <a:t>NameError: name 'y' is not defi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y =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304920" y="5410080"/>
            <a:ext cx="2655720" cy="1251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w Cen MT"/>
              </a:rPr>
              <a:t>Sequence types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w Cen MT"/>
              </a:rPr>
              <a:t>Tuples, Lists and Strin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Why Pyth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85800" y="16444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 Orien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functional constructs: map, generators, list comprehen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LP Processing: Symbol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ython has built-in datatypes for strings, lists, and m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LP Processing: Statist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ython has strong numeric processing capabilities: matrix operation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itable for probability and machine learning cod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LTK: Natural Language Tool K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ely used for teaching NL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rst developed for this cou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ed as a set of Python mod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s adequate libraries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LP building bloc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ogle "NLTK" for more info, code, data sets, book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Sequence Typ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831960" y="1703520"/>
            <a:ext cx="7772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36640" indent="-379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Symbol" charset="2"/>
              <a:buChar char="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impl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immu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rdered sequence of i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6640" indent="-379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Symbol" charset="2"/>
              <a:buChar char="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ems can be of mixed types, including collection 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6640" indent="-379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36640" indent="-379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Immu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36640" indent="-379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eptually very much like a tu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36640" indent="-379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8-bit characters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code strin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se 2-byte characters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36640" indent="-379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36640" indent="-379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Symbol" charset="2"/>
              <a:buChar char="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Mu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rdered sequence of items of mixed 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36640" indent="-379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Similar Synta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760320" y="18097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three sequence types (tuples, strings, and lists) share much of the same syntax and functiona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y differenc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ples and strings are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immu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sts are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mu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operations shown in this section can be applied to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equence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examples will just show the operation performed on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Sequence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76032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ples are defined using parentheses (and comma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Courier New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u = (23,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'abc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4.56, (2,3),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'def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s are defined using square brackets (and comma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Courier New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i = [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"abc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34, 4.34, 23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ngs are defined using quotes (", ', or """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Courier New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t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"Hello World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Courier New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t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'Hello World'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Courier New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t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"""This is a multi-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string that uses triple quotes."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Sequence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831960" y="164772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can access individual members of a tuple, list, or string using square bracket "array" notatio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e that all are 0 based…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tu = (23,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Arial"/>
              </a:rPr>
              <a:t>'abc'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, 4.56, (2,3),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Arial"/>
              </a:rPr>
              <a:t>'def'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tu[1]     # Second item in the tup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Arial"/>
              </a:rPr>
              <a:t>'abc'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li = [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Arial"/>
              </a:rPr>
              <a:t>"abc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, 34, 4.34, 23]</a:t>
            </a:r>
            <a:r>
              <a:rPr b="1" lang="en-US" sz="1800" spc="-1" strike="noStrike">
                <a:solidFill>
                  <a:srgbClr val="660033"/>
                </a:solidFill>
                <a:latin typeface="Courier New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li[1]      # Second item in the li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Arial"/>
              </a:rPr>
              <a:t>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st =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Arial"/>
              </a:rPr>
              <a:t>"Hello Worl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st[1]   # Second character in str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Arial"/>
              </a:rPr>
              <a:t>'e'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Positive and negative indic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685800" y="1773360"/>
            <a:ext cx="8077320" cy="48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t = (23,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"/>
              </a:rPr>
              <a:t>'abc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, 4.56, (2,3),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"/>
              </a:rPr>
              <a:t>'def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sitive index: count from the left, starting with 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t[1]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'abc'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gative lookup: count from right, starting with –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t[-3]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4.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685800" y="57960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Slicing: Return Copy of a Subs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urier New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 = (23,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'abc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4.56, (2,3),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'def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a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op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he container with a subset of the original members.  Start copying at the first index, and stop copying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befo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second index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urier New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[1:4]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('abc', 4.56, (2,3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an also use negative indices when slic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urier New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[1:-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('abc', 4.56, (2,3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685800" y="57960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w Cen MT"/>
              </a:rPr>
              <a:t>Slicing: Return Copy of a Subs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685800" y="19810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urier New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 = (23,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'abc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4.56, (2,3),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'def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it the first index to make a copy starting from the beginning of the contain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urier New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[:2]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(23, 'abc'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it the second index to make a copy starting at the first index and going to the end of the contain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urier New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[2: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(4.56, (2,3), 'def'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685800" y="57960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w Cen MT"/>
              </a:rPr>
              <a:t>The 'in' Opera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760320" y="1665360"/>
            <a:ext cx="777240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olean test whether a value is inside a collection (often called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ain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Pyth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 t = [1, 2, 4, 5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 3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  <a:ea typeface="Arial"/>
              </a:rPr>
              <a:t>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Arial"/>
              </a:rPr>
              <a:t>Fa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 4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  <a:ea typeface="Arial"/>
              </a:rPr>
              <a:t>in</a:t>
            </a:r>
            <a:r>
              <a:rPr b="1" lang="en-US" sz="1600" spc="-1" strike="noStrike">
                <a:solidFill>
                  <a:srgbClr val="ff6600"/>
                </a:solidFill>
                <a:latin typeface="Courier New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Arial"/>
              </a:rPr>
              <a:t>Tr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 4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  <a:ea typeface="Arial"/>
              </a:rPr>
              <a:t>not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Arial"/>
              </a:rPr>
              <a:t>Fa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strings, tests for subst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&gt;&gt; a = 'abcde'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&gt;&gt;&gt; 'c'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  <a:ea typeface="Arial"/>
              </a:rPr>
              <a:t>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Tr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&gt;&gt;&gt; 'cd'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  <a:ea typeface="Arial"/>
              </a:rPr>
              <a:t>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Arial"/>
              </a:rPr>
              <a:t>Tr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&gt;&gt;&gt; 'ac'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  <a:ea typeface="Arial"/>
              </a:rPr>
              <a:t>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Arial"/>
              </a:rPr>
              <a:t>Fa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 careful: the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keyword is also used in the syntax of </a:t>
            </a:r>
            <a:br>
              <a:rPr sz="2000"/>
            </a:br>
            <a:r>
              <a:rPr b="1" i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o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ist comprehens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685800" y="57960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w Cen MT"/>
              </a:rPr>
              <a:t>The + Opera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31960" y="18097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+ operator produces a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tuple, list, or string whose value is the concatenation of its argu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(1, 2, 3) + (4, 5, 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(1, 2, 3, 4, 5, 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[1, 2, 3] + [4, 5, 6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[1, 2, 3, 4, 5, 6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"Hello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 " 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 "World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'Hello World'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1630080" cy="2819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w Cen MT"/>
              </a:rPr>
              <a:t>Mutability:</a:t>
            </a:r>
            <a:br>
              <a:rPr sz="5400"/>
            </a:br>
            <a:r>
              <a:rPr b="0" lang="en-US" sz="5400" spc="-1" strike="noStrike">
                <a:solidFill>
                  <a:srgbClr val="000066"/>
                </a:solidFill>
                <a:latin typeface="Tw Cen MT"/>
              </a:rPr>
              <a:t>Tuples vs. Lists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Why Pyth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912960" y="1905120"/>
            <a:ext cx="7792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werful but unobtrusive objec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value is an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es guide but do not dominate object con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werful collection and iteration abstr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ynamic typing makes generics eas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Lists: Mutab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750960" y="1773360"/>
            <a:ext cx="79246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urier New"/>
              </a:rPr>
              <a:t>&gt;&gt;&g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li = [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'abc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23, 4.34, 23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urier New"/>
              </a:rPr>
              <a:t>&gt;&gt;&g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li[1] = 45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urier New"/>
              </a:rPr>
              <a:t>&gt;&gt;&g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li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['abc', 45, 4.34, 23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change list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place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Courier New"/>
              </a:rPr>
              <a:t>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ill points to the same memory reference when we're do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Tuples: Immutab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685800" y="1557360"/>
            <a:ext cx="7848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174240" indent="-174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t = (23,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'abc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, 4.56, (2,3),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'def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240" indent="-174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t[2] = 3.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240" indent="-174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240" indent="-174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Arial"/>
              </a:rPr>
              <a:t>Traceback (most recent call last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240" indent="-174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Arial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Arial"/>
              </a:rPr>
              <a:t>File "&lt;pyshell#75&gt;", line 1, in -toplevel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240" indent="-174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Arial"/>
              </a:rPr>
              <a:t>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Arial"/>
              </a:rPr>
              <a:t>tu[2] = 3.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240" indent="-174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Arial"/>
              </a:rPr>
              <a:t>TypeError: object doesn't support item assig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240" indent="-174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240" indent="-1742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 can't change a tup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4240" indent="-1742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 can make a fresh tuple and assign its reference to a previously used na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4240" indent="-174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t = (23,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'abc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, 3.14, (2,3),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'def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240" indent="-174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240" indent="-174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The immutability of tuples means they're faster than list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4240" indent="-1742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Operations on Lists Only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685800" y="1828800"/>
            <a:ext cx="8278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li = [1, 11, 3, 4, 5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li.append('a'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# Note the </a:t>
            </a:r>
            <a:r>
              <a:rPr b="1" i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method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 synt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[1, 11, 3, 4, 5, 'a'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li.insert(2, 'i'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[1, 11, 'i', 3, 4, 5, 'a'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685800" y="243000"/>
            <a:ext cx="7772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w Cen MT"/>
              </a:rPr>
              <a:t>The </a:t>
            </a:r>
            <a:r>
              <a:rPr b="0" i="1" lang="en-US" sz="4000" spc="-1" strike="noStrike">
                <a:solidFill>
                  <a:srgbClr val="3333cc"/>
                </a:solidFill>
                <a:latin typeface="Tw Cen MT"/>
              </a:rPr>
              <a:t>extend</a:t>
            </a:r>
            <a:r>
              <a:rPr b="0" lang="en-US" sz="4000" spc="-1" strike="noStrike">
                <a:solidFill>
                  <a:srgbClr val="000066"/>
                </a:solidFill>
                <a:latin typeface="Tw Cen MT"/>
              </a:rPr>
              <a:t> method vs the </a:t>
            </a:r>
            <a:r>
              <a:rPr b="0" i="1" lang="en-US" sz="4000" spc="-1" strike="noStrike">
                <a:solidFill>
                  <a:srgbClr val="3333cc"/>
                </a:solidFill>
                <a:latin typeface="Tw Cen MT"/>
              </a:rPr>
              <a:t>+</a:t>
            </a:r>
            <a:r>
              <a:rPr b="0" lang="en-US" sz="4000" spc="-1" strike="noStrike">
                <a:solidFill>
                  <a:srgbClr val="000066"/>
                </a:solidFill>
                <a:latin typeface="Tw Cen MT"/>
              </a:rPr>
              <a:t> operator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685800" y="1736640"/>
            <a:ext cx="777240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reates a fresh list (with a new memory refere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exte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perates on li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pl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li.extend([9, 8, 7])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[1, 2, 'i', 3, 4, 5, 'a', 9, 8, 7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Confus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exte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kes a list as an argumen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appe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kes a singleton as an argu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li.append([10, 11, 12]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[1, 2, 'i', 3, 4, 5, 'a', 9, 8, 7, [10, 11, 12]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Operations on Lists Only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685800" y="1665360"/>
            <a:ext cx="777240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li = ['a', 'b', 'c', 'b'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li.index('b')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Arial"/>
              </a:rPr>
              <a:t># index of first occurrence</a:t>
            </a:r>
            <a:r>
              <a:rPr b="1" lang="en-US" sz="2000" spc="-1" strike="noStrike" baseline="30000">
                <a:solidFill>
                  <a:srgbClr val="c00000"/>
                </a:solidFill>
                <a:latin typeface="Courier New"/>
                <a:ea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complex forms ex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li.count('b')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Arial"/>
              </a:rPr>
              <a:t># number of occurr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li.remove('b')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Arial"/>
              </a:rPr>
              <a:t># remove first occur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['a', 'c', 'b'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Operations on Lists Only (4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760320" y="173664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li = [5, 2, 6, 8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li.reverse()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Arial"/>
              </a:rPr>
              <a:t># reverse the list </a:t>
            </a:r>
            <a:r>
              <a:rPr b="1" i="1" lang="en-US" sz="2000" spc="-1" strike="noStrike">
                <a:solidFill>
                  <a:srgbClr val="c00000"/>
                </a:solidFill>
                <a:latin typeface="Courier New"/>
                <a:ea typeface="Arial"/>
              </a:rPr>
              <a:t>*in place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[8, 6, 2, 5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li.sort() 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Arial"/>
              </a:rPr>
              <a:t># sort the list </a:t>
            </a:r>
            <a:r>
              <a:rPr b="1" i="1" lang="en-US" sz="2000" spc="-1" strike="noStrike">
                <a:solidFill>
                  <a:srgbClr val="c00000"/>
                </a:solidFill>
                <a:latin typeface="Courier New"/>
                <a:ea typeface="Arial"/>
              </a:rPr>
              <a:t>*in place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[2, 5, 6, 8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li.sort(some_function)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Arial"/>
              </a:rPr>
              <a:t># sort in place using user-defined compari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Summary: Tuples vs. Li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831960" y="166536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sts slower but more powerful than tup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sts can be modified, and they have lots of handy operations we can perform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ples are immutable and have fewer featu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convert between tuples and lists use the list() and tuple() func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li = list(t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tu = tuple(l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68580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2235240" y="4286160"/>
            <a:ext cx="4672080" cy="8953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w Cen MT"/>
              </a:rPr>
              <a:t>Dictionaries: a </a:t>
            </a:r>
            <a:r>
              <a:rPr b="0" i="1" lang="en-US" sz="5400" spc="-1" strike="noStrike">
                <a:solidFill>
                  <a:srgbClr val="c00000"/>
                </a:solidFill>
                <a:latin typeface="Tw Cen MT"/>
              </a:rPr>
              <a:t>mapping</a:t>
            </a:r>
            <a:r>
              <a:rPr b="0" i="1" lang="en-US" sz="5400" spc="-1" strike="noStrike">
                <a:solidFill>
                  <a:srgbClr val="000066"/>
                </a:solidFill>
                <a:latin typeface="Tw Cen MT"/>
              </a:rPr>
              <a:t> </a:t>
            </a:r>
            <a:r>
              <a:rPr b="0" lang="en-US" sz="5400" spc="-1" strike="noStrike">
                <a:solidFill>
                  <a:srgbClr val="000066"/>
                </a:solidFill>
                <a:latin typeface="Tw Cen MT"/>
              </a:rPr>
              <a:t>collection type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Dictionaries: A </a:t>
            </a:r>
            <a:r>
              <a:rPr b="0" i="1" lang="en-US" sz="4400" spc="-1" strike="noStrike">
                <a:solidFill>
                  <a:srgbClr val="c00000"/>
                </a:solidFill>
                <a:latin typeface="Tw Cen MT"/>
              </a:rPr>
              <a:t>Mapping</a:t>
            </a: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 typ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743040" y="1682640"/>
            <a:ext cx="807696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ctionaries store a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mapp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tween a set of keys and a set of val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ys can be any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immu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lues can be any 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lues and keys can be of different types in a single diction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 c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ok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e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key-value pairs in the dictiona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685800" y="243000"/>
            <a:ext cx="7772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w Cen MT"/>
              </a:rPr>
              <a:t>Creating and accessing dictionar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685800" y="1916280"/>
            <a:ext cx="80773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d = {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'use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: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'bozo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,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'psw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:123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d[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'use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]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'bozo'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d[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'pswd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123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d[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'bozo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Arial"/>
              </a:rPr>
              <a:t>Traceback (innermost last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Arial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Arial"/>
              </a:rPr>
              <a:t>File '&lt;interactive input&gt;' line 1, in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Arial"/>
              </a:rPr>
              <a:t>KeyError: boz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981000" y="254160"/>
            <a:ext cx="81630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Pyth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861840" y="1600200"/>
            <a:ext cx="81108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0840" indent="-330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pret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anguage: works with an evaluator for language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0840" indent="-330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ynamically typ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variables do not have a predefined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0840" indent="-330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ich, built-in collection typ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8920" indent="-275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8920" indent="-275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8920" indent="-275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ctionaries (map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8920" indent="-275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0840" indent="-330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8920" indent="-275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Updating Dictiona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685800" y="1673280"/>
            <a:ext cx="777240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d = {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Arial"/>
              </a:rPr>
              <a:t>'user'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: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Arial"/>
              </a:rPr>
              <a:t>'bozo'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,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Arial"/>
              </a:rPr>
              <a:t>'pswd'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:1234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d[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Arial"/>
              </a:rPr>
              <a:t>'user'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] =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Arial"/>
              </a:rPr>
              <a:t>'clown'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Arial"/>
              </a:rPr>
              <a:t>{'user':'clown', 'pswd':1234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ys must be uniqu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igning to an existing key replaces its valu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d[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Arial"/>
              </a:rPr>
              <a:t>'id'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] = 4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Arial"/>
              </a:rPr>
              <a:t>{'user':'clown', 'id':45, 'pswd':1234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ctionaries are unorde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w entry might appear anywhere in the outpu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Dictionaries work by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hashing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Removing dictionary ent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735120" y="1700280"/>
            <a:ext cx="822960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d = {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'use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: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'bozo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,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'p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:1234,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'i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:3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Courier New"/>
                <a:ea typeface="Arial"/>
              </a:rPr>
              <a:t>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d[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'user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]   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Arial"/>
              </a:rPr>
              <a:t># Remove o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{'p':1234, 'i':3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d.clear()       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Arial"/>
              </a:rPr>
              <a:t># Remove al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{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a = [1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Courier New"/>
                <a:ea typeface="Arial"/>
              </a:rPr>
              <a:t>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a[1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Arial"/>
              </a:rPr>
              <a:t># (del also works on lis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[1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Useful Accessor Metho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684360" y="1809720"/>
            <a:ext cx="8459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d = {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"/>
              </a:rPr>
              <a:t>'user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: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"/>
              </a:rPr>
              <a:t>'bozo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"/>
              </a:rPr>
              <a:t>'p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:1234,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"/>
              </a:rPr>
              <a:t>'i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:34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d.keys()    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Arial"/>
              </a:rPr>
              <a:t># List of </a:t>
            </a:r>
            <a:r>
              <a:rPr b="1" i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current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Arial"/>
              </a:rPr>
              <a:t> ke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['user', 'p', 'i'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d.values()  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Arial"/>
              </a:rPr>
              <a:t># List of </a:t>
            </a:r>
            <a:r>
              <a:rPr b="1" i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current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Arial"/>
              </a:rPr>
              <a:t>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['bozo', 1234, 34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d.items()  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Arial"/>
              </a:rPr>
              <a:t># List of item tup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[('user','bozo'), ('p',1234), ('i',34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4292640" y="3657600"/>
            <a:ext cx="4672080" cy="2846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Functions in Python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ethods lat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Python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685800" y="1676520"/>
            <a:ext cx="8134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ython determines the types of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variable binding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a program automatically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"Dynamic Typ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objects have types and Pyth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forces the types of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objec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"Strong Typ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, for example, you can't just append an integer to a string.  You must first convert the integer to a string itself.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x =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Arial"/>
              </a:rPr>
              <a:t>"the answer is "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Arial"/>
              </a:rPr>
              <a:t># Decides x is bound to a str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y = 23          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Arial"/>
              </a:rPr>
              <a:t># Decides y is bound to an integ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Arial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x + y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Arial"/>
              </a:rPr>
              <a:t># Python will complain about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Calling a Fun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8580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yntax for a function call 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</a:t>
            </a: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Courier New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myfun(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y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 *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Courier New"/>
              </a:rPr>
              <a:t>&gt;&gt;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yfun(3, 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ameters are passed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  <a:ea typeface="Arial"/>
              </a:rPr>
              <a:t>by va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“Call by Value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argument expre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evaluated and the resulting value is bound to the corresponding variable in the function (which is a new one for each invoc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assignment in Python, including binding function parameters, use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reference seman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since values are all object referenc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Many web discussions on this are simply confused and call it “call by assignment” or “call by sharing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Functions without retur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685800" y="175428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unctions in Python have a return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en if no </a:t>
            </a: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 inside the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 without a </a:t>
            </a: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turn the special value </a:t>
            </a:r>
            <a:r>
              <a:rPr b="1" lang="en-US" sz="2400" spc="-1" strike="noStrike">
                <a:solidFill>
                  <a:srgbClr val="c00000"/>
                </a:solidFill>
                <a:latin typeface="Lucida Sans Unicode"/>
                <a:ea typeface="Arial"/>
              </a:rPr>
              <a:t>N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N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a special constant in the languag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N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used like </a:t>
            </a: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 </a:t>
            </a: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ni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other languag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N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also logically equivalent to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interpreter doesn't print </a:t>
            </a: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N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Function overloading? No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685800" y="162864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is no function overloading in Pyth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like C++, a Python function is specified by its name al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umber, order, names, or types of its argumen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 used to distinguish between two functions with the same na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wo different functions can't have the same name, even if they have different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: se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operator overlo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later sl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6858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w Cen MT"/>
              </a:rPr>
              <a:t>Functions are first-class objects in Pyth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831960" y="173664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nctions can be used as any other data 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y can b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guments to fun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urn values of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igned to vari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s of tuples, lists, et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Lucida Sans Unicode"/>
                <a:ea typeface="Arial"/>
              </a:rPr>
              <a:t>&gt;&gt;&gt;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Lucida Sans Unicode"/>
                <a:ea typeface="Arial"/>
              </a:rPr>
              <a:t>def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Lucida Sans Unicode"/>
                <a:ea typeface="Arial"/>
              </a:rPr>
              <a:t>myfun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(x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c00000"/>
                </a:solidFill>
                <a:latin typeface="Lucida Sans Unicode"/>
                <a:ea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x*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Lucida Sans Unicode"/>
                <a:ea typeface="Arial"/>
              </a:rPr>
              <a:t>&gt;&gt;&gt;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Lucida Sans Unicode"/>
                <a:ea typeface="Arial"/>
              </a:rPr>
              <a:t>def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Lucida Sans Unicode"/>
                <a:ea typeface="Arial"/>
              </a:rPr>
              <a:t>apply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(q, x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c00000"/>
                </a:solidFill>
                <a:latin typeface="Lucida Sans Unicode"/>
                <a:ea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q(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Lucida Sans Unicode"/>
                <a:ea typeface="Arial"/>
              </a:rPr>
              <a:t>&gt;&gt;&gt;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apply(myfun, 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Sans Unicode"/>
                <a:ea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8580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5181480" y="4267080"/>
            <a:ext cx="327672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w Cen MT"/>
              </a:rPr>
              <a:t>Logical Expressions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685800" y="4762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Language featur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925560" y="1765440"/>
            <a:ext cx="769140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dentation instead of br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line separates stat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veral sequence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ings </a:t>
            </a:r>
            <a:r>
              <a:rPr b="1" lang="en-US" sz="2400" spc="-1" strike="noStrike">
                <a:solidFill>
                  <a:srgbClr val="b2b2b2"/>
                </a:solidFill>
                <a:latin typeface="Courier New"/>
                <a:ea typeface="Arial"/>
              </a:rPr>
              <a:t>'…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made of characters, immu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sts </a:t>
            </a:r>
            <a:r>
              <a:rPr b="1" lang="en-US" sz="2400" spc="-1" strike="noStrike">
                <a:solidFill>
                  <a:srgbClr val="b2b2b2"/>
                </a:solidFill>
                <a:latin typeface="Courier New"/>
                <a:ea typeface="Arial"/>
              </a:rPr>
              <a:t>[…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made of anything, mu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ples </a:t>
            </a:r>
            <a:r>
              <a:rPr b="1" lang="en-US" sz="2400" spc="-1" strike="noStrike">
                <a:solidFill>
                  <a:srgbClr val="b2b2b2"/>
                </a:solidFill>
                <a:latin typeface="Courier New"/>
                <a:ea typeface="Arial"/>
              </a:rPr>
              <a:t>(…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: made of anything, immu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werful subscripting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lic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nctions are independent entities (not all functions are metho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ce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True and Fals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760320" y="181296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 Unicode"/>
                <a:ea typeface="Arial"/>
              </a:rPr>
              <a:t>Tr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c00000"/>
                </a:solidFill>
                <a:latin typeface="Lucida Sans Unicode"/>
                <a:ea typeface="Arial"/>
              </a:rPr>
              <a:t>Fal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constants in Pyth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values equivalent to </a:t>
            </a:r>
            <a:r>
              <a:rPr b="1" lang="en-US" sz="2400" spc="-1" strike="noStrike">
                <a:solidFill>
                  <a:srgbClr val="c00000"/>
                </a:solidFill>
                <a:latin typeface="Lucida Sans Unicode"/>
                <a:ea typeface="Arial"/>
              </a:rPr>
              <a:t>Tr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c00000"/>
                </a:solidFill>
                <a:latin typeface="Lucida Sans Unicode"/>
                <a:ea typeface="Arial"/>
              </a:rPr>
              <a:t>Fal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zero, </a:t>
            </a: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empty container or 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non-zero numbers, non-empty obj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rison operators: </a:t>
            </a:r>
            <a:r>
              <a:rPr b="1" lang="en-US" sz="2400" spc="-1" strike="noStrike">
                <a:solidFill>
                  <a:srgbClr val="333399"/>
                </a:solidFill>
                <a:latin typeface="Lucida Sans Unicode"/>
                <a:ea typeface="Arial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Lucida Sans Unicode"/>
                <a:ea typeface="Arial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Lucida Sans Unicode"/>
                <a:ea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Lucida Sans Unicode"/>
                <a:ea typeface="Arial"/>
              </a:rPr>
              <a:t>&lt;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have same value:   </a:t>
            </a:r>
            <a:r>
              <a:rPr b="1" lang="en-US" sz="2000" spc="-1" strike="noStrike">
                <a:solidFill>
                  <a:srgbClr val="333399"/>
                </a:solidFill>
                <a:latin typeface="Lucida Sans Unicode"/>
                <a:ea typeface="Arial"/>
              </a:rPr>
              <a:t>X ==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re with    </a:t>
            </a:r>
            <a:r>
              <a:rPr b="1" lang="en-US" sz="2000" spc="-1" strike="noStrike">
                <a:solidFill>
                  <a:srgbClr val="333399"/>
                </a:solidFill>
                <a:latin typeface="Lucida Sans Unicode"/>
                <a:ea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Lucida Sans Unicode"/>
                <a:ea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two variables that refer to the 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identical same objec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Boolean Logic Expres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685800" y="18097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 can also combine Boolean express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True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 is </a:t>
            </a:r>
            <a:r>
              <a:rPr b="0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True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b is </a:t>
            </a:r>
            <a:r>
              <a:rPr b="0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a </a:t>
            </a: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True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 is </a:t>
            </a:r>
            <a:r>
              <a:rPr b="0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True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b is </a:t>
            </a:r>
            <a:r>
              <a:rPr b="0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a </a:t>
            </a: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True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 is </a:t>
            </a:r>
            <a:r>
              <a:rPr b="0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parentheses as needed to disambiguate complex Boolean express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ually, evaluation of expressions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laz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w Cen MT"/>
              </a:rPr>
              <a:t>Special Properties of </a:t>
            </a:r>
            <a:r>
              <a:rPr b="0" lang="en-US" sz="3200" spc="-1" strike="noStrike">
                <a:solidFill>
                  <a:srgbClr val="c00000"/>
                </a:solidFill>
                <a:latin typeface="Lucida Sans Unicode"/>
                <a:ea typeface="Lucida Sans Unicode"/>
              </a:rPr>
              <a:t>and</a:t>
            </a:r>
            <a:r>
              <a:rPr b="0" i="1" lang="en-US" sz="3200" spc="-1" strike="noStrike">
                <a:solidFill>
                  <a:srgbClr val="3333cc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Tw Cen MT"/>
              </a:rPr>
              <a:t>and </a:t>
            </a:r>
            <a:r>
              <a:rPr b="0" lang="en-US" sz="3200" spc="-1" strike="noStrike">
                <a:solidFill>
                  <a:srgbClr val="c00000"/>
                </a:solidFill>
                <a:latin typeface="Lucida Sans Unicode"/>
                <a:ea typeface="Lucida Sans Unicode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685800" y="1758960"/>
            <a:ext cx="777240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ually </a:t>
            </a: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n'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return </a:t>
            </a: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True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</a:t>
            </a: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y return the value of one of their sub-expressions (which may be a non-Boolean valu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Sans Unicode"/>
                <a:ea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Lucida Sans Unicode"/>
                <a:ea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Lucida Sans Unicode"/>
                <a:ea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all are true, returns value of </a:t>
            </a:r>
            <a:r>
              <a:rPr b="0" lang="en-US" sz="1800" spc="-1" strike="noStrike">
                <a:solidFill>
                  <a:srgbClr val="333399"/>
                </a:solidFill>
                <a:latin typeface="Lucida Sans Unicode"/>
                <a:ea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wise, returns value of first false sub-expre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Sans Unicode"/>
                <a:ea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Lucida Sans Unicode"/>
                <a:ea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Lucida Sans Unicode"/>
                <a:ea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all are false, returns value of </a:t>
            </a:r>
            <a:r>
              <a:rPr b="0" lang="en-US" sz="1800" spc="-1" strike="noStrike">
                <a:solidFill>
                  <a:srgbClr val="333399"/>
                </a:solidFill>
                <a:latin typeface="Lucida Sans Unicode"/>
                <a:ea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wise, returns value of first true sub-expre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and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US" sz="2000" spc="-1" strike="noStrike">
                <a:solidFill>
                  <a:srgbClr val="c00000"/>
                </a:solidFill>
                <a:latin typeface="Lucida Sans Unicode"/>
                <a:ea typeface="Arial"/>
              </a:rPr>
              <a:t>or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lazy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evalu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so no further expressions are evalu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6858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w Cen MT"/>
              </a:rPr>
              <a:t>Conditional Expres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685800" y="173664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Arial"/>
              </a:rPr>
              <a:t>x = true_value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Arial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Arial"/>
              </a:rPr>
              <a:t>condi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Arial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Arial"/>
              </a:rPr>
              <a:t>false_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ion ru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Arial"/>
              </a:rPr>
              <a:t>condition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evalu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Arial"/>
              </a:rPr>
              <a:t>true_value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evaluated and retur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Arial"/>
              </a:rPr>
              <a:t>false_value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evaluated and retur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Tw Cen MT"/>
              </a:rPr>
              <a:t>Control of Flow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68580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673200" y="3745080"/>
            <a:ext cx="281916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if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tatemen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685800" y="1665360"/>
            <a:ext cx="7772400" cy="50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6920"/>
                <a:tab algn="l" pos="2281320"/>
                <a:tab algn="l" pos="3195720"/>
                <a:tab algn="l" pos="4110120"/>
                <a:tab algn="l" pos="5024520"/>
                <a:tab algn="l" pos="5938920"/>
                <a:tab algn="l" pos="6853320"/>
                <a:tab algn="l" pos="7767720"/>
                <a:tab algn="l" pos="8682120"/>
                <a:tab algn="l" pos="9596520"/>
                <a:tab algn="l" pos="10510920"/>
                <a:tab algn="l" pos="105156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x == 3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6920"/>
                <a:tab algn="l" pos="2281320"/>
                <a:tab algn="l" pos="3195720"/>
                <a:tab algn="l" pos="4110120"/>
                <a:tab algn="l" pos="5024520"/>
                <a:tab algn="l" pos="5938920"/>
                <a:tab algn="l" pos="6853320"/>
                <a:tab algn="l" pos="7767720"/>
                <a:tab algn="l" pos="8682120"/>
                <a:tab algn="l" pos="9596520"/>
                <a:tab algn="l" pos="105109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"/>
              </a:rPr>
              <a:t>"X equals 3.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6920"/>
                <a:tab algn="l" pos="2281320"/>
                <a:tab algn="l" pos="3195720"/>
                <a:tab algn="l" pos="4110120"/>
                <a:tab algn="l" pos="5024520"/>
                <a:tab algn="l" pos="5938920"/>
                <a:tab algn="l" pos="6853320"/>
                <a:tab algn="l" pos="7767720"/>
                <a:tab algn="l" pos="8682120"/>
                <a:tab algn="l" pos="9596520"/>
                <a:tab algn="l" pos="10510920"/>
                <a:tab algn="l" pos="105156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x == 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6920"/>
                <a:tab algn="l" pos="2281320"/>
                <a:tab algn="l" pos="3195720"/>
                <a:tab algn="l" pos="4110120"/>
                <a:tab algn="l" pos="5024520"/>
                <a:tab algn="l" pos="5938920"/>
                <a:tab algn="l" pos="6853320"/>
                <a:tab algn="l" pos="7767720"/>
                <a:tab algn="l" pos="8682120"/>
                <a:tab algn="l" pos="9596520"/>
                <a:tab algn="l" pos="105109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"/>
              </a:rPr>
              <a:t>"X equals 2.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6920"/>
                <a:tab algn="l" pos="2281320"/>
                <a:tab algn="l" pos="3195720"/>
                <a:tab algn="l" pos="4110120"/>
                <a:tab algn="l" pos="5024520"/>
                <a:tab algn="l" pos="5938920"/>
                <a:tab algn="l" pos="6853320"/>
                <a:tab algn="l" pos="7767720"/>
                <a:tab algn="l" pos="8682120"/>
                <a:tab algn="l" pos="9596520"/>
                <a:tab algn="l" pos="10510920"/>
                <a:tab algn="l" pos="105156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6920"/>
                <a:tab algn="l" pos="2281320"/>
                <a:tab algn="l" pos="3195720"/>
                <a:tab algn="l" pos="4110120"/>
                <a:tab algn="l" pos="5024520"/>
                <a:tab algn="l" pos="5938920"/>
                <a:tab algn="l" pos="6853320"/>
                <a:tab algn="l" pos="7767720"/>
                <a:tab algn="l" pos="8682120"/>
                <a:tab algn="l" pos="9596520"/>
                <a:tab algn="l" pos="105109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"/>
              </a:rPr>
              <a:t>"X equals something else.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6920"/>
                <a:tab algn="l" pos="2281320"/>
                <a:tab algn="l" pos="3195720"/>
                <a:tab algn="l" pos="4110120"/>
                <a:tab algn="l" pos="5024520"/>
                <a:tab algn="l" pos="5938920"/>
                <a:tab algn="l" pos="6853320"/>
                <a:tab algn="l" pos="7767720"/>
                <a:tab algn="l" pos="8682120"/>
                <a:tab algn="l" pos="9596520"/>
                <a:tab algn="l" pos="10510920"/>
                <a:tab algn="l" pos="105156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"/>
              </a:rPr>
              <a:t>"This is outside the 'if'.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366920"/>
                <a:tab algn="l" pos="2281320"/>
                <a:tab algn="l" pos="3195720"/>
                <a:tab algn="l" pos="4110120"/>
                <a:tab algn="l" pos="5024520"/>
                <a:tab algn="l" pos="5938920"/>
                <a:tab algn="l" pos="6853320"/>
                <a:tab algn="l" pos="7767720"/>
                <a:tab algn="l" pos="8682120"/>
                <a:tab algn="l" pos="9596520"/>
                <a:tab algn="l" pos="1051092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66920"/>
                <a:tab algn="l" pos="2281320"/>
                <a:tab algn="l" pos="3195720"/>
                <a:tab algn="l" pos="4110120"/>
                <a:tab algn="l" pos="5024520"/>
                <a:tab algn="l" pos="5938920"/>
                <a:tab algn="l" pos="6853320"/>
                <a:tab algn="l" pos="7767720"/>
                <a:tab algn="l" pos="8682120"/>
                <a:tab algn="l" pos="9596520"/>
                <a:tab algn="l" pos="105109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 The keyword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if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lso used in the syntax of filtered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list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comprehens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66920"/>
                <a:tab algn="l" pos="2281320"/>
                <a:tab algn="l" pos="3195720"/>
                <a:tab algn="l" pos="4110120"/>
                <a:tab algn="l" pos="5024520"/>
                <a:tab algn="l" pos="5938920"/>
                <a:tab algn="l" pos="6853320"/>
                <a:tab algn="l" pos="7767720"/>
                <a:tab algn="l" pos="8682120"/>
                <a:tab algn="l" pos="9596520"/>
                <a:tab algn="l" pos="105109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366920"/>
                <a:tab algn="l" pos="2281320"/>
                <a:tab algn="l" pos="3195720"/>
                <a:tab algn="l" pos="4110120"/>
                <a:tab algn="l" pos="5024520"/>
                <a:tab algn="l" pos="5938920"/>
                <a:tab algn="l" pos="6853320"/>
                <a:tab algn="l" pos="7767720"/>
                <a:tab algn="l" pos="8682120"/>
                <a:tab algn="l" pos="9596520"/>
                <a:tab algn="l" pos="105109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of indentation for bl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366920"/>
                <a:tab algn="l" pos="2281320"/>
                <a:tab algn="l" pos="3195720"/>
                <a:tab algn="l" pos="4110120"/>
                <a:tab algn="l" pos="5024520"/>
                <a:tab algn="l" pos="5938920"/>
                <a:tab algn="l" pos="6853320"/>
                <a:tab algn="l" pos="7767720"/>
                <a:tab algn="l" pos="8682120"/>
                <a:tab algn="l" pos="9596520"/>
                <a:tab algn="l" pos="105109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on (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fter boolean ex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while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Loo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831960" y="173664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x =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Arial"/>
              </a:rPr>
              <a:t>while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x &lt; 5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Arial"/>
              </a:rPr>
              <a:t>print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x,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 "still in the loop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x = x +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3 still in the lo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4 still in the lo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x = 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Arial"/>
              </a:rPr>
              <a:t>while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x &lt; 5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Arial"/>
              </a:rPr>
              <a:t>print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x,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 "still in the loop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Lucida Sans Unicode"/>
                <a:ea typeface="Lucida Sans Unicode"/>
              </a:rPr>
              <a:t>break</a:t>
            </a:r>
            <a:r>
              <a:rPr b="1" lang="en-US" sz="36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Lucida Sans Unicode"/>
                <a:ea typeface="Lucida Sans Unicode"/>
              </a:rPr>
              <a:t>and </a:t>
            </a:r>
            <a:r>
              <a:rPr b="1" lang="en-US" sz="3600" spc="-1" strike="noStrike">
                <a:solidFill>
                  <a:srgbClr val="c00000"/>
                </a:solidFill>
                <a:latin typeface="Lucida Sans Unicode"/>
                <a:ea typeface="Lucida Sans Unicode"/>
              </a:rPr>
              <a:t>conti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685800" y="18097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 can use the keyword </a:t>
            </a:r>
            <a:r>
              <a:rPr b="1" lang="en-US" sz="2400" spc="-1" strike="noStrike">
                <a:solidFill>
                  <a:srgbClr val="c00000"/>
                </a:solidFill>
                <a:latin typeface="Tw Cen MT"/>
                <a:ea typeface="Arial"/>
              </a:rPr>
              <a:t>break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ide a loop to leave the </a:t>
            </a:r>
            <a:r>
              <a:rPr b="1" lang="en-US" sz="2400" spc="-1" strike="noStrike">
                <a:solidFill>
                  <a:srgbClr val="c00000"/>
                </a:solidFill>
                <a:latin typeface="Tw Cen MT"/>
                <a:ea typeface="Arial"/>
              </a:rPr>
              <a:t>while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op entirely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 can use the keyword </a:t>
            </a:r>
            <a:r>
              <a:rPr b="1" lang="en-US" sz="2400" spc="-1" strike="noStrike">
                <a:solidFill>
                  <a:srgbClr val="c00000"/>
                </a:solidFill>
                <a:latin typeface="Tw Cen MT"/>
                <a:ea typeface="Arial"/>
              </a:rPr>
              <a:t>continue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ide a loop to stop processing the current iteration of the loop and to immediately go on to the next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Lucida Sans Unicode"/>
                <a:ea typeface="Lucida Sans Unicode"/>
              </a:rPr>
              <a:t>asse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685800" y="18097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assert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 will check to make sure that something is true during the course of a progra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the condition if false, the program sto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ore accurately: the program throws an excep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asser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number_of_players &lt; 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68580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6934320" y="4495680"/>
            <a:ext cx="1699920" cy="18543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Tw Cen MT"/>
              </a:rPr>
              <a:t>For Loops</a:t>
            </a:r>
            <a:endParaRPr b="0" lang="en-US" sz="6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981000" y="241200"/>
            <a:ext cx="816300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w Cen MT"/>
              </a:rPr>
              <a:t>Dynamic typ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925560" y="1600200"/>
            <a:ext cx="701820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va/C++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ically typ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iables are declared to refer to objects of a given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hods use type signatures to enforce contr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yth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iables come into existence when first assigned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variable can refer to an object of any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types are (almost) treated the same 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 drawback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 type errors are only caught at 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w Cen MT"/>
              </a:rPr>
              <a:t>For Loops / List Comprehen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739800" y="173664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ython's list comprehensions provide a natural idiom that usually requires a for-loop in other programming langu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a result, Python code uses many fewer for-loop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vertheless, it's important to learn about for-loo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ve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keywords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also used in the syntax of list comprehensions, but this is a totally different constru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For Loops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685800" y="164772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0840" indent="-330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-each is Python's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on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constr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840" indent="-330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for loop steps through each of the items in a collection type, or any other type of object which is "iterable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840" indent="-330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for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Arial"/>
              </a:rPr>
              <a:t>&lt;item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i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  <a:ea typeface="Arial"/>
              </a:rPr>
              <a:t>&lt;collection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&lt;statement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0840" indent="-330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0840" indent="-330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Arial"/>
              </a:rPr>
              <a:t>&lt;collection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a list or a tuple, then the loop steps through each element of the seque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840" indent="-330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840" indent="-330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Arial"/>
              </a:rPr>
              <a:t>&lt;collection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a string, then the loop steps through each character of the string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0840" indent="-330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for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Arial"/>
              </a:rPr>
              <a:t>some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i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  <a:ea typeface="Arial"/>
              </a:rPr>
              <a:t>"Hello World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0840" indent="-330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print someCh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For Loops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685800" y="166536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for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Arial"/>
              </a:rPr>
              <a:t>&lt;item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i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  <a:ea typeface="Arial"/>
              </a:rPr>
              <a:t>&lt;collection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&lt;statements&gt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5156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&lt;item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n be more complex than a single variable na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the elements of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  <a:ea typeface="Arial"/>
              </a:rPr>
              <a:t>&lt;collection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re themselves sequences, then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&lt;item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n match the structure of the ele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multiple assignment can make it easier to access the individual parts of each eleme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for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  <a:ea typeface="Arial"/>
              </a:rPr>
              <a:t>(x, y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in </a:t>
            </a:r>
            <a:r>
              <a:rPr b="1" lang="en-US" sz="1800" spc="-1" strike="noStrike">
                <a:solidFill>
                  <a:srgbClr val="660066"/>
                </a:solidFill>
                <a:latin typeface="Courier New"/>
                <a:ea typeface="Arial"/>
              </a:rPr>
              <a:t>[(a,1), (b,2), (c,3), (d,4)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Arial"/>
              </a:rPr>
              <a:t>print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Tw Cen MT"/>
              </a:rPr>
              <a:t>For</a:t>
            </a:r>
            <a:r>
              <a:rPr b="0" lang="en-US" sz="3600" spc="-1" strike="noStrike">
                <a:solidFill>
                  <a:srgbClr val="000066"/>
                </a:solidFill>
                <a:latin typeface="Tw Cen MT"/>
              </a:rPr>
              <a:t> loops and the </a:t>
            </a:r>
            <a:r>
              <a:rPr b="0" i="1" lang="en-US" sz="3600" spc="-1" strike="noStrike">
                <a:solidFill>
                  <a:srgbClr val="c00000"/>
                </a:solidFill>
                <a:latin typeface="Tw Cen MT"/>
              </a:rPr>
              <a:t>range()</a:t>
            </a:r>
            <a:r>
              <a:rPr b="0" lang="en-US" sz="3600" spc="-1" strike="noStrike">
                <a:solidFill>
                  <a:srgbClr val="000066"/>
                </a:solidFill>
                <a:latin typeface="Tw Cen MT"/>
              </a:rPr>
              <a:t> fun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685800" y="166536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nce a variable often ranges over some sequence of numbers, the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range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unction returns a list of numbers from 0 up to but not including the number we pass to 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nge(5) returns [0,1,2,3,4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 we could say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for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in </a:t>
            </a:r>
            <a:r>
              <a:rPr b="1" lang="en-US" sz="2000" spc="-1" strike="noStrike">
                <a:solidFill>
                  <a:srgbClr val="660066"/>
                </a:solidFill>
                <a:latin typeface="Courier New"/>
                <a:ea typeface="Arial"/>
              </a:rPr>
              <a:t>range(5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print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here are more complex forms of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range(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at provide richer  functionality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xrange(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turns an iterator that provides the same functionality here more efficient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685800" y="57960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For Loops and Dictiona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755640" y="1736640"/>
            <a:ext cx="77724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Arial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ges = {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"Sam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: 4,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"Mary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3,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"Bill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2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Arial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{'Bill': 2, 'Mary': 3, 'Sam': 4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Arial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am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ges.keys(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ame, ages[nam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Bill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Mary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Sam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Arial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name, age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ges.items(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ame, 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String Oper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685800" y="166536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number of methods for the string class perform useful formatting opera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"/>
              </a:rPr>
              <a:t>"hello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.upper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'HELLO'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ck the Python documentation for many other handy string oper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lpful hint:  us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&lt;string&gt;.strip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strip off final newlines from lines read from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1042920" y="2735280"/>
            <a:ext cx="4105440" cy="838080"/>
          </a:xfrm>
          <a:prstGeom prst="rect">
            <a:avLst/>
          </a:prstGeom>
          <a:solidFill>
            <a:srgbClr val="3333cc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Printing with Pyth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685800" y="1981080"/>
            <a:ext cx="7848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can print a string to the screen using "print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the % string operator in combination with the print command, we can format our output text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 </a:t>
            </a:r>
            <a:r>
              <a:rPr b="1" lang="en-US" sz="1800" spc="-1" strike="noStrike">
                <a:solidFill>
                  <a:srgbClr val="ff6600"/>
                </a:solidFill>
                <a:latin typeface="Courier New"/>
                <a:ea typeface="Arial"/>
              </a:rPr>
              <a:t>print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Arial"/>
              </a:rPr>
              <a:t>"%s xyz %d"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%  (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Arial"/>
              </a:rPr>
              <a:t>"abc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, 3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Arial"/>
              </a:rPr>
              <a:t>abc xyz 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Print" automatically adds a newline to the end of the string.  If you include a list of strings, it will concatenate them with a space between th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Courier New"/>
                <a:ea typeface="Arial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  <a:ea typeface="Arial"/>
              </a:rPr>
              <a:t> </a:t>
            </a:r>
            <a:r>
              <a:rPr b="1" lang="en-US" sz="1600" spc="-1" strike="noStrike">
                <a:solidFill>
                  <a:srgbClr val="ff6600"/>
                </a:solidFill>
                <a:latin typeface="Courier New"/>
                <a:ea typeface="Arial"/>
              </a:rPr>
              <a:t>print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  <a:ea typeface="Arial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  <a:ea typeface="Arial"/>
              </a:rPr>
              <a:t>"abc"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Arial"/>
              </a:rPr>
              <a:t> </a:t>
            </a:r>
            <a:r>
              <a:rPr b="1" lang="en-US" sz="1600" spc="-1" strike="noStrike">
                <a:solidFill>
                  <a:srgbClr val="ff6600"/>
                </a:solidFill>
                <a:latin typeface="Courier New"/>
                <a:ea typeface="Arial"/>
              </a:rPr>
              <a:t>print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Arial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  <a:ea typeface="Arial"/>
              </a:rPr>
              <a:t>"abc"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,</a:t>
            </a:r>
            <a:r>
              <a:rPr b="1" lang="en-US" sz="1600" spc="-1" strike="noStrike">
                <a:solidFill>
                  <a:srgbClr val="33cc33"/>
                </a:solidFill>
                <a:latin typeface="Courier New"/>
                <a:ea typeface="Arial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  <a:ea typeface="Arial"/>
              </a:rPr>
              <a:t>"def"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Arial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Arial"/>
              </a:rPr>
              <a:t>abc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Arial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Arial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Arial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Arial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Arial"/>
              </a:rPr>
              <a:t>abc de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ful trick: 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  <a:ea typeface="Arial"/>
              </a:rPr>
              <a:t> </a:t>
            </a:r>
            <a:r>
              <a:rPr b="1" lang="en-US" sz="1600" spc="-1" strike="noStrike">
                <a:solidFill>
                  <a:srgbClr val="ff6600"/>
                </a:solidFill>
                <a:latin typeface="Courier New"/>
                <a:ea typeface="Arial"/>
              </a:rPr>
              <a:t>print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  <a:ea typeface="Arial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  <a:ea typeface="Arial"/>
              </a:rPr>
              <a:t>"abc"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,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esn't add newline just a single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343400" y="4648320"/>
            <a:ext cx="2895480" cy="533160"/>
          </a:xfrm>
          <a:prstGeom prst="rect">
            <a:avLst/>
          </a:prstGeom>
          <a:solidFill>
            <a:srgbClr val="3333cc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1143000" y="4648320"/>
            <a:ext cx="1981080" cy="609480"/>
          </a:xfrm>
          <a:prstGeom prst="rect">
            <a:avLst/>
          </a:prstGeom>
          <a:solidFill>
            <a:srgbClr val="3333cc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219320" y="2971800"/>
            <a:ext cx="5410080" cy="533520"/>
          </a:xfrm>
          <a:prstGeom prst="rect">
            <a:avLst/>
          </a:prstGeom>
          <a:solidFill>
            <a:srgbClr val="3333cc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61" name="AutoShape 8"/>
          <p:cNvCxnSpPr/>
          <p:nvPr/>
        </p:nvCxnSpPr>
        <p:spPr>
          <a:xfrm flipV="1">
            <a:off x="3506400" y="5792400"/>
            <a:ext cx="610200" cy="3816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Convert Anything to a St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685800" y="173664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uilt-in str() function can convert an instance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ata type into a str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can define how this function behaves for user-created data types.  You can also redefine the behavior of this function for many typ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660033"/>
                </a:solidFill>
                <a:latin typeface="Courier New"/>
                <a:ea typeface="Arial"/>
              </a:rPr>
              <a:t>&gt;&gt;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Arial"/>
              </a:rPr>
              <a:t>"Hello 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+ str(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Arial"/>
              </a:rPr>
              <a:t>"Hello 2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1092240" y="3860640"/>
            <a:ext cx="3048120" cy="762120"/>
          </a:xfrm>
          <a:prstGeom prst="rect">
            <a:avLst/>
          </a:prstGeom>
          <a:solidFill>
            <a:srgbClr val="3333cc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685800" y="2286000"/>
            <a:ext cx="777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w Cen MT"/>
              </a:rPr>
              <a:t>Importing and Modul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685800" y="3886200"/>
            <a:ext cx="70866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4037040" y="3581280"/>
            <a:ext cx="4672080" cy="28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685800" y="520560"/>
            <a:ext cx="77709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w Cen MT"/>
              </a:rPr>
              <a:t>Importing and Modu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762120" y="1663560"/>
            <a:ext cx="77706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se classes &amp; functions defined in another fi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Python module is a single file with the same name (plus the </a:t>
            </a:r>
            <a:r>
              <a:rPr b="1" i="1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.py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tension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ke Java </a:t>
            </a:r>
            <a:r>
              <a:rPr b="1" i="1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import</a:t>
            </a:r>
            <a:br>
              <a:rPr sz="2000"/>
            </a:br>
            <a:r>
              <a:rPr b="1" i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ere does Python look for module fil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li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directories where Python looks: 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sys.pa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add a directory of your own to this list, append it to this li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sys.path.append('/my/new/path'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981000" y="291960"/>
            <a:ext cx="816300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w Cen MT"/>
              </a:rPr>
              <a:t>Playing with Python (1)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042920" y="1989000"/>
            <a:ext cx="6121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Arial"/>
              </a:rPr>
              <a:t>2+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2/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2.0/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0.6666666666666666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x=4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20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int(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685800" y="57960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994040"/>
                <a:tab algn="l" pos="2908440"/>
                <a:tab algn="l" pos="3822840"/>
                <a:tab algn="l" pos="4737240"/>
                <a:tab algn="l" pos="5651640"/>
                <a:tab algn="l" pos="6566040"/>
                <a:tab algn="l" pos="7480440"/>
                <a:tab algn="l" pos="8394840"/>
                <a:tab algn="l" pos="9309240"/>
                <a:tab algn="l" pos="10223640"/>
                <a:tab algn="l" pos="1113804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w Cen MT"/>
              </a:rPr>
              <a:t>Import</a:t>
            </a: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 (1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671400" y="1674720"/>
            <a:ext cx="78058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374040" indent="-28188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1001880"/>
                <a:tab algn="l" pos="1916280"/>
                <a:tab algn="l" pos="2830680"/>
                <a:tab algn="l" pos="3745080"/>
                <a:tab algn="l" pos="4659480"/>
                <a:tab algn="l" pos="5573880"/>
                <a:tab algn="l" pos="6488280"/>
                <a:tab algn="l" pos="7402680"/>
                <a:tab algn="l" pos="8317080"/>
                <a:tab algn="l" pos="9231480"/>
                <a:tab algn="l" pos="10145880"/>
                <a:tab algn="l" pos="105156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urier New"/>
                <a:ea typeface="Arial"/>
              </a:rPr>
              <a:t>import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 some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160" indent="-280080">
              <a:lnSpc>
                <a:spcPct val="87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1880"/>
                <a:tab algn="l" pos="1916280"/>
                <a:tab algn="l" pos="2830680"/>
                <a:tab algn="l" pos="3745080"/>
                <a:tab algn="l" pos="4659480"/>
                <a:tab algn="l" pos="5573880"/>
                <a:tab algn="l" pos="6488280"/>
                <a:tab algn="l" pos="7402680"/>
                <a:tab algn="l" pos="8317080"/>
                <a:tab algn="l" pos="9231480"/>
                <a:tab algn="l" pos="1014588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verythin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in somefile.py can be referred to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281880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001880"/>
                <a:tab algn="l" pos="1916280"/>
                <a:tab algn="l" pos="2830680"/>
                <a:tab algn="l" pos="3745080"/>
                <a:tab algn="l" pos="4659480"/>
                <a:tab algn="l" pos="5573880"/>
                <a:tab algn="l" pos="6488280"/>
                <a:tab algn="l" pos="7402680"/>
                <a:tab algn="l" pos="8317080"/>
                <a:tab algn="l" pos="9231480"/>
                <a:tab algn="l" pos="1014588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somefile.className.method(</a:t>
            </a:r>
            <a:r>
              <a:rPr b="1" lang="en-GB" sz="2400" spc="-1" strike="noStrike">
                <a:solidFill>
                  <a:srgbClr val="008000"/>
                </a:solidFill>
                <a:latin typeface="Courier New"/>
                <a:ea typeface="Arial"/>
              </a:rPr>
              <a:t>"abc"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281880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001880"/>
                <a:tab algn="l" pos="1916280"/>
                <a:tab algn="l" pos="2830680"/>
                <a:tab algn="l" pos="3745080"/>
                <a:tab algn="l" pos="4659480"/>
                <a:tab algn="l" pos="5573880"/>
                <a:tab algn="l" pos="6488280"/>
                <a:tab algn="l" pos="7402680"/>
                <a:tab algn="l" pos="8317080"/>
                <a:tab algn="l" pos="9231480"/>
                <a:tab algn="l" pos="1014588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somefile.myFunction(3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28188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1001880"/>
                <a:tab algn="l" pos="1916280"/>
                <a:tab algn="l" pos="2830680"/>
                <a:tab algn="l" pos="3745080"/>
                <a:tab algn="l" pos="4659480"/>
                <a:tab algn="l" pos="5573880"/>
                <a:tab algn="l" pos="6488280"/>
                <a:tab algn="l" pos="7402680"/>
                <a:tab algn="l" pos="8317080"/>
                <a:tab algn="l" pos="9231480"/>
                <a:tab algn="l" pos="10145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281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1880"/>
                <a:tab algn="l" pos="1916280"/>
                <a:tab algn="l" pos="2830680"/>
                <a:tab algn="l" pos="3745080"/>
                <a:tab algn="l" pos="4659480"/>
                <a:tab algn="l" pos="5573880"/>
                <a:tab algn="l" pos="6488280"/>
                <a:tab algn="l" pos="7402680"/>
                <a:tab algn="l" pos="8317080"/>
                <a:tab algn="l" pos="9231480"/>
                <a:tab algn="l" pos="10145880"/>
                <a:tab algn="l" pos="105156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urier New"/>
                <a:ea typeface="Arial"/>
              </a:rPr>
              <a:t>from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 somefile </a:t>
            </a:r>
            <a:r>
              <a:rPr b="1" lang="en-GB" sz="2400" spc="-1" strike="noStrike">
                <a:solidFill>
                  <a:srgbClr val="ff6600"/>
                </a:solidFill>
                <a:latin typeface="Courier New"/>
                <a:ea typeface="Arial"/>
              </a:rPr>
              <a:t>import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16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1880"/>
                <a:tab algn="l" pos="1916280"/>
                <a:tab algn="l" pos="2830680"/>
                <a:tab algn="l" pos="3745080"/>
                <a:tab algn="l" pos="4659480"/>
                <a:tab algn="l" pos="5573880"/>
                <a:tab algn="l" pos="6488280"/>
                <a:tab algn="l" pos="7402680"/>
                <a:tab algn="l" pos="8317080"/>
                <a:tab algn="l" pos="9231480"/>
                <a:tab algn="l" pos="1014588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verythin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in somefile.py can be referred to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281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1880"/>
                <a:tab algn="l" pos="1916280"/>
                <a:tab algn="l" pos="2830680"/>
                <a:tab algn="l" pos="3745080"/>
                <a:tab algn="l" pos="4659480"/>
                <a:tab algn="l" pos="5573880"/>
                <a:tab algn="l" pos="6488280"/>
                <a:tab algn="l" pos="7402680"/>
                <a:tab algn="l" pos="8317080"/>
                <a:tab algn="l" pos="9231480"/>
                <a:tab algn="l" pos="1014588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className.method(</a:t>
            </a:r>
            <a:r>
              <a:rPr b="1" lang="en-GB" sz="2400" spc="-1" strike="noStrike">
                <a:solidFill>
                  <a:srgbClr val="008000"/>
                </a:solidFill>
                <a:latin typeface="Courier New"/>
                <a:ea typeface="Arial"/>
              </a:rPr>
              <a:t>"abc"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281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1880"/>
                <a:tab algn="l" pos="1916280"/>
                <a:tab algn="l" pos="2830680"/>
                <a:tab algn="l" pos="3745080"/>
                <a:tab algn="l" pos="4659480"/>
                <a:tab algn="l" pos="5573880"/>
                <a:tab algn="l" pos="6488280"/>
                <a:tab algn="l" pos="7402680"/>
                <a:tab algn="l" pos="8317080"/>
                <a:tab algn="l" pos="9231480"/>
                <a:tab algn="l" pos="1014588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myFunction(3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16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1880"/>
                <a:tab algn="l" pos="1916280"/>
                <a:tab algn="l" pos="2830680"/>
                <a:tab algn="l" pos="3745080"/>
                <a:tab algn="l" pos="4659480"/>
                <a:tab algn="l" pos="5573880"/>
                <a:tab algn="l" pos="6488280"/>
                <a:tab algn="l" pos="7402680"/>
                <a:tab algn="l" pos="8317080"/>
                <a:tab algn="l" pos="9231480"/>
                <a:tab algn="l" pos="1014588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veat!  This can easily overwrite the definition of an existing function or variabl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281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1880"/>
                <a:tab algn="l" pos="1916280"/>
                <a:tab algn="l" pos="2830680"/>
                <a:tab algn="l" pos="3745080"/>
                <a:tab algn="l" pos="4659480"/>
                <a:tab algn="l" pos="5573880"/>
                <a:tab algn="l" pos="6488280"/>
                <a:tab algn="l" pos="7402680"/>
                <a:tab algn="l" pos="8317080"/>
                <a:tab algn="l" pos="9231480"/>
                <a:tab algn="l" pos="101458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281880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001880"/>
                <a:tab algn="l" pos="1916280"/>
                <a:tab algn="l" pos="2830680"/>
                <a:tab algn="l" pos="3745080"/>
                <a:tab algn="l" pos="4659480"/>
                <a:tab algn="l" pos="5573880"/>
                <a:tab algn="l" pos="6488280"/>
                <a:tab algn="l" pos="7402680"/>
                <a:tab algn="l" pos="8317080"/>
                <a:tab algn="l" pos="9231480"/>
                <a:tab algn="l" pos="10145880"/>
                <a:tab algn="l" pos="105156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994040"/>
                <a:tab algn="l" pos="2908440"/>
                <a:tab algn="l" pos="3822840"/>
                <a:tab algn="l" pos="4737240"/>
                <a:tab algn="l" pos="5651640"/>
                <a:tab algn="l" pos="6566040"/>
                <a:tab algn="l" pos="7480440"/>
                <a:tab algn="l" pos="8394840"/>
                <a:tab algn="l" pos="9309240"/>
                <a:tab algn="l" pos="10223640"/>
                <a:tab algn="l" pos="1113804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w Cen MT"/>
              </a:rPr>
              <a:t>Import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685800" y="1717560"/>
            <a:ext cx="78058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30200" indent="-324000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001880"/>
                <a:tab algn="l" pos="1916280"/>
                <a:tab algn="l" pos="2830680"/>
                <a:tab algn="l" pos="3745080"/>
                <a:tab algn="l" pos="4659480"/>
                <a:tab algn="l" pos="5573880"/>
                <a:tab algn="l" pos="6488280"/>
                <a:tab algn="l" pos="7402680"/>
                <a:tab algn="l" pos="8317080"/>
                <a:tab algn="l" pos="9231480"/>
                <a:tab algn="l" pos="10145880"/>
                <a:tab algn="l" pos="105156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Courier New"/>
                <a:ea typeface="Arial"/>
              </a:rPr>
              <a:t>fr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 somefile </a:t>
            </a:r>
            <a:r>
              <a:rPr b="1" lang="en-GB" sz="2000" spc="-1" strike="noStrike">
                <a:solidFill>
                  <a:srgbClr val="ff6600"/>
                </a:solidFill>
                <a:latin typeface="Courier New"/>
                <a:ea typeface="Arial"/>
              </a:rPr>
              <a:t>import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class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001880"/>
                <a:tab algn="l" pos="1916280"/>
                <a:tab algn="l" pos="2830680"/>
                <a:tab algn="l" pos="3745080"/>
                <a:tab algn="l" pos="4659480"/>
                <a:tab algn="l" pos="5573880"/>
                <a:tab algn="l" pos="6488280"/>
                <a:tab algn="l" pos="7402680"/>
                <a:tab algn="l" pos="8317080"/>
                <a:tab algn="l" pos="9231480"/>
                <a:tab algn="l" pos="101458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1880"/>
                <a:tab algn="l" pos="1916280"/>
                <a:tab algn="l" pos="2830680"/>
                <a:tab algn="l" pos="3745080"/>
                <a:tab algn="l" pos="4659480"/>
                <a:tab algn="l" pos="5573880"/>
                <a:tab algn="l" pos="6488280"/>
                <a:tab algn="l" pos="7402680"/>
                <a:tab algn="l" pos="8317080"/>
                <a:tab algn="l" pos="9231480"/>
                <a:tab algn="l" pos="1014588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nly the item </a:t>
            </a:r>
            <a:r>
              <a:rPr b="1" i="1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className</a:t>
            </a:r>
            <a:r>
              <a:rPr b="1" i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somefile.py gets im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1880"/>
                <a:tab algn="l" pos="1916280"/>
                <a:tab algn="l" pos="2830680"/>
                <a:tab algn="l" pos="3745080"/>
                <a:tab algn="l" pos="4659480"/>
                <a:tab algn="l" pos="5573880"/>
                <a:tab algn="l" pos="6488280"/>
                <a:tab algn="l" pos="7402680"/>
                <a:tab algn="l" pos="8317080"/>
                <a:tab algn="l" pos="9231480"/>
                <a:tab algn="l" pos="1014588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fer to it without a module prefix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1880"/>
                <a:tab algn="l" pos="1916280"/>
                <a:tab algn="l" pos="2830680"/>
                <a:tab algn="l" pos="3745080"/>
                <a:tab algn="l" pos="4659480"/>
                <a:tab algn="l" pos="5573880"/>
                <a:tab algn="l" pos="6488280"/>
                <a:tab algn="l" pos="7402680"/>
                <a:tab algn="l" pos="8317080"/>
                <a:tab algn="l" pos="9231480"/>
                <a:tab algn="l" pos="1014588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vea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! This can overwrite an existing definitio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001880"/>
                <a:tab algn="l" pos="1916280"/>
                <a:tab algn="l" pos="2830680"/>
                <a:tab algn="l" pos="3745080"/>
                <a:tab algn="l" pos="4659480"/>
                <a:tab algn="l" pos="5573880"/>
                <a:tab algn="l" pos="6488280"/>
                <a:tab algn="l" pos="7402680"/>
                <a:tab algn="l" pos="8317080"/>
                <a:tab algn="l" pos="9231480"/>
                <a:tab algn="l" pos="101458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001880"/>
                <a:tab algn="l" pos="1916280"/>
                <a:tab algn="l" pos="2830680"/>
                <a:tab algn="l" pos="3745080"/>
                <a:tab algn="l" pos="4659480"/>
                <a:tab algn="l" pos="5573880"/>
                <a:tab algn="l" pos="6488280"/>
                <a:tab algn="l" pos="7402680"/>
                <a:tab algn="l" pos="8317080"/>
                <a:tab algn="l" pos="9231480"/>
                <a:tab algn="l" pos="1014588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className.method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  <a:ea typeface="Arial"/>
              </a:rPr>
              <a:t>"abc"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This was impor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001880"/>
                <a:tab algn="l" pos="1916280"/>
                <a:tab algn="l" pos="2830680"/>
                <a:tab algn="l" pos="3745080"/>
                <a:tab algn="l" pos="4659480"/>
                <a:tab algn="l" pos="5573880"/>
                <a:tab algn="l" pos="6488280"/>
                <a:tab algn="l" pos="7402680"/>
                <a:tab algn="l" pos="8317080"/>
                <a:tab algn="l" pos="9231480"/>
                <a:tab algn="l" pos="101458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1001880"/>
                <a:tab algn="l" pos="1916280"/>
                <a:tab algn="l" pos="2830680"/>
                <a:tab algn="l" pos="3745080"/>
                <a:tab algn="l" pos="4659480"/>
                <a:tab algn="l" pos="5573880"/>
                <a:tab algn="l" pos="6488280"/>
                <a:tab algn="l" pos="7402680"/>
                <a:tab algn="l" pos="8317080"/>
                <a:tab algn="l" pos="9231480"/>
                <a:tab algn="l" pos="1014588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myFunction(34)</a:t>
            </a:r>
            <a:r>
              <a:rPr b="0" lang="en-GB" sz="2000" spc="-1" strike="noStrike">
                <a:solidFill>
                  <a:srgbClr val="ccccff"/>
                </a:solidFill>
                <a:latin typeface="Courier New"/>
                <a:ea typeface="Arial"/>
              </a:rPr>
              <a:t>  </a:t>
            </a:r>
            <a:r>
              <a:rPr b="0" lang="en-GB" sz="2000" spc="-1" strike="noStrike">
                <a:solidFill>
                  <a:srgbClr val="ccccff"/>
                </a:solidFill>
                <a:latin typeface="Courier New"/>
                <a:ea typeface="Arial"/>
              </a:rPr>
              <a:t>	</a:t>
            </a:r>
            <a:r>
              <a:rPr b="0" lang="en-GB" sz="2000" spc="-1" strike="noStrike">
                <a:solidFill>
                  <a:srgbClr val="ccccff"/>
                </a:solidFill>
                <a:latin typeface="Courier New"/>
                <a:ea typeface="Arial"/>
              </a:rPr>
              <a:t>	</a:t>
            </a:r>
            <a:r>
              <a:rPr b="0" lang="en-GB" sz="2000" spc="-1" strike="noStrike">
                <a:solidFill>
                  <a:srgbClr val="ccccff"/>
                </a:solidFill>
                <a:latin typeface="Courier New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Not this 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838080" y="4384800"/>
            <a:ext cx="22860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685800" y="520560"/>
            <a:ext cx="77709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w Cen MT"/>
              </a:rPr>
              <a:t>Commonly Used Modu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685800" y="1981080"/>
            <a:ext cx="7770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me useful modules to import, included with Pyth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dule: sy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 Lots of handy stuf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x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dule: o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 OS specific co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dule: os.pat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 Directory process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685800" y="520560"/>
            <a:ext cx="77709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w Cen MT"/>
              </a:rPr>
              <a:t>More Commonly Used Modu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700200" y="1657440"/>
            <a:ext cx="7738920" cy="47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rmAutofit/>
          </a:bodyPr>
          <a:p>
            <a:pPr marL="430200" indent="-324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odule: ma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Mathematical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pon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q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odule: Random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Random number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andr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Unifor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huff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see what's in the standard library of modules, check out the Python Library Referenc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5600"/>
              </a:tabLst>
            </a:pPr>
            <a:r>
              <a:rPr b="0" lang="en-GB" sz="1800" spc="-1" strike="noStrike" u="sng">
                <a:solidFill>
                  <a:srgbClr val="ff0033"/>
                </a:solidFill>
                <a:uFillTx/>
                <a:latin typeface="Arial"/>
                <a:ea typeface="Arial"/>
                <a:hlinkClick r:id="rId1"/>
              </a:rPr>
              <a:t>http://docs.python.org/lib/lib.html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r O'Reilly's Python in a Nutshel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5600"/>
              </a:tabLst>
            </a:pPr>
            <a:r>
              <a:rPr b="0" lang="en-GB" sz="1800" spc="-1" strike="noStrike" u="sng">
                <a:solidFill>
                  <a:srgbClr val="ff0033"/>
                </a:solidFill>
                <a:uFillTx/>
                <a:latin typeface="Arial"/>
                <a:ea typeface="Arial"/>
                <a:hlinkClick r:id="rId2"/>
              </a:rPr>
              <a:t>http://proquest.safaribooksonline.com/059610046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226360"/>
                <a:tab algn="l" pos="8683560"/>
                <a:tab algn="l" pos="9140760"/>
                <a:tab algn="l" pos="9597960"/>
                <a:tab algn="l" pos="1005516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(URL works inside of UPenn, afaik, otherwise see the course web pag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68580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0" y="3352680"/>
            <a:ext cx="3529080" cy="32054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Object Oriented Programming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in Python: Defining Classes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It's all objects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760320" y="188136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thing in Python is really an obje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've seen hints of this already…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"hello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.upper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list3.append(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rial"/>
              </a:rPr>
              <a:t>'a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dict2.key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se look like Java or C++ method cal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in Python is typically done in an object oriented fash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Defining a Clas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831960" y="173664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class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 special data type which defines how to build a certain kind of obje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so stores some data items that are shared by all the instances of this clas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no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ython doesn't use separate class interface definitions much.  You just define the class and then use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Methods in Class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684360" y="173664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a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method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class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including function definitions within the scope of the class bloc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must be a special first argument </a:t>
            </a:r>
            <a:r>
              <a:rPr b="1" i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self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method definitions which gets bound to the calling inst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sel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like </a:t>
            </a:r>
            <a:r>
              <a:rPr b="1" i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Ja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sel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ways refers to the current class in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onstructor for a class is a method called </a:t>
            </a:r>
            <a:r>
              <a:rPr b="1" i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__init__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d within the cla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A simple class definition: </a:t>
            </a:r>
            <a:r>
              <a:rPr b="0" i="1" lang="en-US" sz="4400" spc="-1" strike="noStrike">
                <a:solidFill>
                  <a:srgbClr val="000066"/>
                </a:solidFill>
                <a:latin typeface="Tw Cen MT"/>
              </a:rPr>
              <a:t>Pers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685800" y="1952640"/>
            <a:ext cx="8278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Person(Object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"/>
              </a:rPr>
              <a:t>"""A class representing a person."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"/>
              </a:rPr>
              <a:t>population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self, n, a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elf.full_name = 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elf.age =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erson.population +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__del__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self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erson.population -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get_a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self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self.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Inheritance: </a:t>
            </a:r>
            <a:r>
              <a:rPr b="0" i="1" lang="en-US" sz="4400" spc="-1" strike="noStrike">
                <a:solidFill>
                  <a:srgbClr val="000066"/>
                </a:solidFill>
                <a:latin typeface="Tw Cen MT"/>
              </a:rPr>
              <a:t>Stud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685800" y="1952640"/>
            <a:ext cx="8278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  <a:ea typeface="Arial"/>
              </a:rPr>
              <a:t>Student(Person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"/>
              </a:rPr>
              <a:t>"""A class representing a student."""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__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Arial"/>
              </a:rPr>
              <a:t>init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__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self, n, a, id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uper(Person, self).__init__(n, a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elf.id = i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  <a:ea typeface="Arial"/>
              </a:rPr>
              <a:t>get_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self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self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w Cen MT"/>
              </a:rPr>
              <a:t>Playing with Python (2)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685800" y="166536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18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x='abc'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18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x[0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'a'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18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x[1:3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'bc'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18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x[:2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'ab'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99852b"/>
                </a:solidFill>
                <a:latin typeface="Courier New"/>
                <a:ea typeface="Arial"/>
              </a:rPr>
              <a:t>&gt;&gt;&gt;</a:t>
            </a:r>
            <a:r>
              <a:rPr b="1" lang="en-US" sz="1800" spc="-1" strike="noStrike">
                <a:solidFill>
                  <a:srgbClr val="b2b2b2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"/>
              </a:rPr>
              <a:t>x[1]='d'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Traceback (most recent call last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 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File "&lt;pyshell#14&gt;", line 1, in &lt;modul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   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x[1]='d'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Arial"/>
              </a:rPr>
              <a:t>TypeError: 'str' object does not support item assig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580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Creating and Deleting Instances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685800" y="18097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6640" indent="-296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is no "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 keyword as in Jav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6640" indent="-296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ely use the class name with () notation and assign the result to a vari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6640" indent="-296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  <a:ea typeface="Arial"/>
              </a:rPr>
              <a:t>__init__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s as a constructor for the clas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6640" indent="-296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6640" indent="-296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b = student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"/>
              </a:rPr>
              <a:t>"Bob", 2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6640" indent="-296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  <a:ea typeface="Arial"/>
              </a:rPr>
              <a:t>__init__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hod can take any number of argu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4760" indent="-246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ke other functions &amp; methods, arguments can be defined with default values, making them optional to the call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4760" indent="-246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no real overlo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6640" indent="-296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"/>
          <p:cNvSpPr/>
          <p:nvPr/>
        </p:nvSpPr>
        <p:spPr>
          <a:xfrm>
            <a:off x="685800" y="51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Self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685800" y="195264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though you must specify </a:t>
            </a:r>
            <a:r>
              <a:rPr b="1" i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self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icitly wh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method, you don't include it wh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metho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ython passes it for you automatical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ng a metho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ling a metho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this code inside a class definition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Arial"/>
              </a:rPr>
              <a:t>de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Courier New"/>
                <a:ea typeface="Arial"/>
              </a:rPr>
              <a:t>set_ag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(self, num)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urier New"/>
                <a:ea typeface="Arial"/>
              </a:rPr>
              <a:t>&gt;&gt;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x.set_age(23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self.age = n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5"/>
          <p:cNvSpPr/>
          <p:nvPr/>
        </p:nvSpPr>
        <p:spPr>
          <a:xfrm>
            <a:off x="5105520" y="3809880"/>
            <a:ext cx="144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5943600" y="5181480"/>
            <a:ext cx="2655720" cy="1251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w Cen MT"/>
              </a:rPr>
              <a:t>Access to Attributes and Methods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1"/>
          <p:cNvSpPr/>
          <p:nvPr/>
        </p:nvSpPr>
        <p:spPr>
          <a:xfrm>
            <a:off x="685800" y="54756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w Cen MT"/>
              </a:rPr>
              <a:t>Traditional Syntax for Ac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768240" y="1800360"/>
            <a:ext cx="79074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  <a:ea typeface="Arial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f = Person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"/>
              </a:rPr>
              <a:t>"Bob Smith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, 2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  <a:ea typeface="Arial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f.full_name   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# Access an attribu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"Bob Smith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  <a:ea typeface="Arial"/>
              </a:rPr>
              <a:t>&gt;&gt;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f.get_age()   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Arial"/>
              </a:rPr>
              <a:t># Access a meth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826920" y="5641920"/>
            <a:ext cx="7705800" cy="520560"/>
          </a:xfrm>
          <a:prstGeom prst="rect">
            <a:avLst/>
          </a:prstGeom>
          <a:gradFill rotWithShape="0">
            <a:gsLst>
              <a:gs pos="0">
                <a:srgbClr val="b7c4ff"/>
              </a:gs>
              <a:gs pos="100000">
                <a:srgbClr val="e8ecff"/>
              </a:gs>
            </a:gsLst>
            <a:lin ang="162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publ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priv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protect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5562720" y="3733920"/>
            <a:ext cx="3181320" cy="28368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w Cen MT"/>
              </a:rPr>
              <a:t>File Processing, Error Handling, Regular Expressions, etc.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685800" y="453960"/>
            <a:ext cx="77709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w Cen MT"/>
              </a:rPr>
              <a:t>File Processing with Pyth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698400" y="1741320"/>
            <a:ext cx="777096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rmAutofit/>
          </a:bodyPr>
          <a:p>
            <a:pPr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a good way to play with the error handing capabilities of Python.  Try accessing files without permissions or with non-existent name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'll get plenty of errors to look at and play with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file = open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  <a:ea typeface="Arial"/>
              </a:rPr>
              <a:t>'filename'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somestring = file.read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Courier New"/>
                <a:ea typeface="Arial"/>
              </a:rPr>
              <a:t>f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 line </a:t>
            </a:r>
            <a:r>
              <a:rPr b="1" lang="en-GB" sz="2000" spc="-1" strike="noStrike">
                <a:solidFill>
                  <a:srgbClr val="c00000"/>
                </a:solidFill>
                <a:latin typeface="Courier New"/>
                <a:ea typeface="Arial"/>
              </a:rPr>
              <a:t>i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 file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1" lang="en-GB" sz="2000" spc="-1" strike="noStrike">
                <a:solidFill>
                  <a:srgbClr val="c00000"/>
                </a:solidFill>
                <a:latin typeface="Courier New"/>
                <a:ea typeface="Arial"/>
              </a:rPr>
              <a:t>pri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 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file.clos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 more, see section 3.9 of the Python Library reference at </a:t>
            </a:r>
            <a:r>
              <a:rPr b="1" lang="en-GB" sz="2000" spc="-1" strike="noStrike" u="sng">
                <a:solidFill>
                  <a:srgbClr val="ff0033"/>
                </a:solidFill>
                <a:uFillTx/>
                <a:latin typeface="Arial"/>
                <a:ea typeface="Arial"/>
                <a:hlinkClick r:id="rId1"/>
              </a:rPr>
              <a:t>http://docs.python.org/lib/bltin-file-objects.htm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685800" y="520560"/>
            <a:ext cx="77709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000066"/>
                </a:solidFill>
                <a:latin typeface="Tw Cen MT"/>
              </a:rPr>
              <a:t>Exception Handl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700200" y="1824120"/>
            <a:ext cx="77389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ceptions are Python 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re specific kinds of errors are subclasses of the general Error cla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use the following commands to interact with the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in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685800" y="579600"/>
            <a:ext cx="8278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w Cen MT"/>
              </a:rPr>
              <a:t>Regular Expressions and Match Objec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685800" y="166536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ython provides a very rich set of tools for pattern matching against strings in module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for regular express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a gentle introduction to regular expressions in Python s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ff0033"/>
                </a:solidFill>
                <a:uFillTx/>
                <a:latin typeface="Arial"/>
                <a:ea typeface="Arial"/>
                <a:hlinkClick r:id="rId1"/>
              </a:rPr>
              <a:t>http://www.diveintopython.org/regular_expressions/index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ff0033"/>
                </a:solidFill>
                <a:uFillTx/>
                <a:latin typeface="Arial"/>
                <a:ea typeface="Arial"/>
                <a:hlinkClick r:id="rId2"/>
              </a:rPr>
              <a:t>http://www.amk.ca/python/howto/regex/regex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gular Express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ort 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ote_re = re.compile('".+"'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ote_re.search('then he said "find the quote"...'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 = quote_re.search('then he said "find the quote"...'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.group(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'"find the quote"'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 = quote_re.search('quote 1: "im a quote" quote2: "so am i" more words'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.group(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'"im a quote" quote2: "so am i"'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ote_re2 = re.compile('"[^"]+"'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 = quote_re2.search('quote 1: "im a quote" quote2: "so am i" more words'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.group(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'"im a quote"'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nt = 'quote 1: "im a quote" quote2: "so am i" more words'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ote_re2.findall(sent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['"im a quote"', '"so am i"']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ote_re3 = re.compile('".+?"'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 = quote_re3.search(sent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.group(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'"im a quote"'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06:54:45Z</dcterms:created>
  <dc:creator>Matt Huenerfauth</dc:creator>
  <dc:description/>
  <dc:language>en-US</dc:language>
  <cp:lastModifiedBy>Giuseppe Attardi</cp:lastModifiedBy>
  <dcterms:modified xsi:type="dcterms:W3CDTF">2016-10-06T12:11:00Z</dcterms:modified>
  <cp:revision>337</cp:revision>
  <dc:subject/>
  <dc:title>Introduction to Python</dc:title>
</cp:coreProperties>
</file>